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png" ContentType="image/png"/>
  <Override PartName="/ppt/media/image1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8.jpeg" ContentType="image/jpeg"/>
  <Override PartName="/ppt/media/image7.png" ContentType="image/png"/>
  <Override PartName="/ppt/media/image32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6.png" ContentType="image/png"/>
  <Override PartName="/ppt/media/image39.png" ContentType="image/png"/>
  <Override PartName="/ppt/media/image9.png" ContentType="image/png"/>
  <Override PartName="/ppt/media/image38.jpeg" ContentType="image/jpeg"/>
  <Override PartName="/ppt/media/image33.jpeg" ContentType="image/jpeg"/>
  <Override PartName="/ppt/media/image35.png" ContentType="image/png"/>
  <Override PartName="/ppt/media/image5.jpeg" ContentType="image/jpeg"/>
  <Override PartName="/ppt/media/image11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firstslide"/>
          </p:cNvPr>
          <p:cNvSpPr/>
          <p:nvPr/>
        </p:nvSpPr>
        <p:spPr>
          <a:xfrm>
            <a:off x="7307280" y="5589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7740720" y="5589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39960" y="573264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66"/>
                </a:solidFill>
                <a:latin typeface="Arial Narrow"/>
              </a:rPr>
              <a:t>By Mamã Sof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Andy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Andy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20.xml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30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" Target="slide32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" Target="slide36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6.xml"/><Relationship Id="rId4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09680" y="1068480"/>
            <a:ext cx="6553080" cy="12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cccc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Brincar com</a:t>
            </a:r>
            <a:endParaRPr b="0" lang="en-US" sz="1800" spc="1" strike="noStrike">
              <a:ln w="38160">
                <a:solidFill>
                  <a:srgbClr val="33cccc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87520" y="2349360"/>
            <a:ext cx="613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cccc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as Letras</a:t>
            </a:r>
            <a:endParaRPr b="0" lang="en-US" sz="1800" spc="1" strike="noStrike">
              <a:ln w="38160">
                <a:solidFill>
                  <a:srgbClr val="33cccc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92360" y="3933720"/>
            <a:ext cx="2879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* Vogais</a:t>
            </a:r>
            <a:endParaRPr b="0" lang="en-US" sz="10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57440" y="5084640"/>
            <a:ext cx="345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* Ditongos</a:t>
            </a:r>
            <a:endParaRPr b="0" lang="en-US" sz="10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1042920" y="3716280"/>
            <a:ext cx="49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4869000"/>
            <a:ext cx="49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16360" y="1989000"/>
            <a:ext cx="324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LÉCTRICO</a:t>
            </a:r>
            <a:endParaRPr b="0" lang="en-US" sz="1800" spc="1" strike="noStrike">
              <a:ln w="38160">
                <a:solidFill>
                  <a:srgbClr val="3366ff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1268280"/>
            <a:ext cx="863640" cy="1440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69236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16520" y="445284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U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04000" y="4481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95560" y="1052640"/>
            <a:ext cx="2236680" cy="237636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291636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4572000" y="433692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651672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140328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148360" y="1989000"/>
            <a:ext cx="28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latin typeface="Comic Sans MS"/>
              </a:rPr>
              <a:t>GREJA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ccffff"/>
              </a:solidFill>
              <a:latin typeface="Comic Sans MS"/>
              <a:ea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1268280"/>
            <a:ext cx="863640" cy="14400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9236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76720" y="4464000"/>
            <a:ext cx="718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993366"/>
                </a:solidFill>
                <a:latin typeface="Comic Sans MS"/>
              </a:rPr>
              <a:t>U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993366"/>
              </a:solidFill>
              <a:latin typeface="Comic Sans MS"/>
              <a:ea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219640" y="4475160"/>
            <a:ext cx="21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99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0099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04000" y="4481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2022480" cy="25196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140328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2916360" y="433692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6516720" y="432576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471636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rcRect l="0" t="0" r="0" b="2965"/>
          <a:stretch/>
        </p:blipFill>
        <p:spPr>
          <a:xfrm>
            <a:off x="1187280" y="1125360"/>
            <a:ext cx="2079720" cy="244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716360" y="1989000"/>
            <a:ext cx="316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6600"/>
                  </a:solidFill>
                  <a:miter/>
                </a:ln>
                <a:solidFill>
                  <a:srgbClr val="c0c0c0"/>
                </a:solidFill>
                <a:latin typeface="Comic Sans MS"/>
              </a:rPr>
              <a:t>VESTRUZ</a:t>
            </a:r>
            <a:endParaRPr b="0" lang="en-US" sz="1800" spc="1" strike="noStrike">
              <a:ln w="38160">
                <a:solidFill>
                  <a:srgbClr val="ff6600"/>
                </a:solidFill>
                <a:miter/>
              </a:ln>
              <a:solidFill>
                <a:srgbClr val="c0c0c0"/>
              </a:solidFill>
              <a:latin typeface="Comic Sans MS"/>
              <a:ea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1268280"/>
            <a:ext cx="863640" cy="14400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9236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00ccff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916520" y="445284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04000" y="4481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99ccff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99ccff"/>
              </a:solidFill>
              <a:latin typeface="Comic Sans MS"/>
              <a:ea typeface="Comic Sans MS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140328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3059280" y="4336920"/>
            <a:ext cx="1223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458784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658800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659640" y="1989000"/>
            <a:ext cx="129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ccffff"/>
                </a:solidFill>
                <a:latin typeface="Comic Sans MS"/>
              </a:rPr>
              <a:t>M</a:t>
            </a:r>
            <a:endParaRPr b="0" lang="en-US" sz="1800" spc="1" strike="noStrike">
              <a:ln w="38160">
                <a:solidFill>
                  <a:srgbClr val="ff00ff"/>
                </a:solidFill>
                <a:miter/>
              </a:ln>
              <a:solidFill>
                <a:srgbClr val="ccffff"/>
              </a:solidFill>
              <a:latin typeface="Comic Sans MS"/>
              <a:ea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1268280"/>
            <a:ext cx="863640" cy="1440000"/>
          </a:xfrm>
          <a:prstGeom prst="rect">
            <a:avLst/>
          </a:prstGeom>
          <a:noFill/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9236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916520" y="445284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U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04000" y="4481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908000" y="1268280"/>
            <a:ext cx="792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</a:t>
            </a:r>
            <a:endParaRPr b="0" lang="en-US" sz="9600" spc="1" strike="noStrike">
              <a:ln w="19080">
                <a:solidFill>
                  <a:srgbClr val="ff00ff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147636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3059280" y="4336920"/>
            <a:ext cx="1223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651672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464328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788000" y="1989000"/>
            <a:ext cx="309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STRELA</a:t>
            </a:r>
            <a:endParaRPr b="0" lang="en-US" sz="1800" spc="1" strike="noStrike">
              <a:ln w="38160">
                <a:solidFill>
                  <a:srgbClr val="ff00ff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3708360" y="1268280"/>
            <a:ext cx="863640" cy="1440000"/>
          </a:xfrm>
          <a:prstGeom prst="rect">
            <a:avLst/>
          </a:prstGeom>
          <a:noFill/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69236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916520" y="445284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U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04000" y="4481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1656000" cy="165600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147636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3059280" y="4336920"/>
            <a:ext cx="1223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58784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3" action="ppaction://hlinksldjump"/>
          </p:cNvPr>
          <p:cNvSpPr/>
          <p:nvPr/>
        </p:nvSpPr>
        <p:spPr>
          <a:xfrm>
            <a:off x="651672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2449440" cy="185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932360" y="1989000"/>
            <a:ext cx="28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cccc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SCOVA</a:t>
            </a:r>
            <a:endParaRPr b="0" lang="en-US" sz="1800" spc="1" strike="noStrike">
              <a:ln w="38160">
                <a:solidFill>
                  <a:srgbClr val="33cccc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1268280"/>
            <a:ext cx="863640" cy="144000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9236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16520" y="445284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U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04000" y="4481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147636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3059280" y="4336920"/>
            <a:ext cx="1223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458784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6516720" y="429408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300720" y="1989000"/>
            <a:ext cx="165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00"/>
                  </a:solidFill>
                  <a:miter/>
                </a:ln>
                <a:solidFill>
                  <a:srgbClr val="993366"/>
                </a:solidFill>
                <a:latin typeface="Comic Sans MS"/>
              </a:rPr>
              <a:t>VA</a:t>
            </a:r>
            <a:endParaRPr b="0" lang="en-US" sz="1800" spc="1" strike="noStrike">
              <a:ln w="38160">
                <a:solidFill>
                  <a:srgbClr val="99cc00"/>
                </a:solidFill>
                <a:miter/>
              </a:ln>
              <a:solidFill>
                <a:srgbClr val="993366"/>
              </a:solidFill>
              <a:latin typeface="Comic Sans MS"/>
              <a:ea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5221440" y="1268280"/>
            <a:ext cx="863280" cy="1440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9236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bbe0e3"/>
                </a:solidFill>
                <a:latin typeface="Comic Sans MS"/>
              </a:rPr>
              <a:t>U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bbe0e3"/>
              </a:solidFill>
              <a:latin typeface="Comic Sans MS"/>
              <a:ea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916520" y="445284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04000" y="4481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1728720" cy="251964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306072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4643280" y="433692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644364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140328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716360" y="1989000"/>
            <a:ext cx="316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lmofada</a:t>
            </a:r>
            <a:endParaRPr b="0" lang="en-US" sz="1800" spc="1" strike="noStrike">
              <a:ln w="38160">
                <a:solidFill>
                  <a:srgbClr val="99cc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3708360" y="1268280"/>
            <a:ext cx="863640" cy="1440000"/>
          </a:xfrm>
          <a:prstGeom prst="rect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9236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00ccff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916520" y="445284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04000" y="4481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99ccff"/>
                </a:solidFill>
                <a:latin typeface="Comic Sans MS"/>
              </a:rPr>
              <a:t>U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99ccff"/>
              </a:solidFill>
              <a:latin typeface="Comic Sans MS"/>
              <a:ea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1881360" cy="237672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147636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3059280" y="4336920"/>
            <a:ext cx="1223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651672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4643280" y="429408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435640" y="1989000"/>
            <a:ext cx="252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GUIA</a:t>
            </a:r>
            <a:endParaRPr b="0" lang="en-US" sz="1800" spc="1" strike="noStrike">
              <a:ln w="38160">
                <a:solidFill>
                  <a:srgbClr val="8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4356000" y="1268280"/>
            <a:ext cx="863640" cy="144000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69236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bbe0e3"/>
                </a:solidFill>
                <a:latin typeface="Comic Sans MS"/>
              </a:rPr>
              <a:t>U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bbe0e3"/>
              </a:solidFill>
              <a:latin typeface="Comic Sans MS"/>
              <a:ea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16520" y="445284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04000" y="4481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2176560" cy="23036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147636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3059280" y="4336920"/>
            <a:ext cx="1223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458784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3" action="ppaction://hlinksldjump"/>
          </p:cNvPr>
          <p:cNvSpPr/>
          <p:nvPr/>
        </p:nvSpPr>
        <p:spPr>
          <a:xfrm>
            <a:off x="658800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1971720" cy="2664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0" y="1989000"/>
            <a:ext cx="338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808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LEFANTE</a:t>
            </a:r>
            <a:endParaRPr b="0" lang="en-US" sz="1800" spc="1" strike="noStrike">
              <a:ln w="38160">
                <a:solidFill>
                  <a:srgbClr val="80808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492360" y="1268280"/>
            <a:ext cx="863640" cy="1440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692360" y="446400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916520" y="445284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59640" y="448164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298764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4572000" y="433692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637236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140328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2028960" cy="28810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932360" y="1989000"/>
            <a:ext cx="302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66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GUANA</a:t>
            </a:r>
            <a:endParaRPr b="0" lang="en-US" sz="1800" spc="1" strike="noStrike">
              <a:ln w="38160">
                <a:solidFill>
                  <a:srgbClr val="ff66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3924360" y="1268280"/>
            <a:ext cx="863640" cy="14400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9236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bbe0e3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bbe0e3"/>
              </a:solidFill>
              <a:latin typeface="Comic Sans MS"/>
              <a:ea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916520" y="445284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04000" y="4481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140328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4572000" y="433692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651672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3059280" y="4292640"/>
            <a:ext cx="1223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2352600" cy="2376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219640" y="1989000"/>
            <a:ext cx="266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5050"/>
                  </a:solidFill>
                  <a:miter/>
                </a:ln>
                <a:solidFill>
                  <a:srgbClr val="ffff66"/>
                </a:solidFill>
                <a:latin typeface="Comic Sans MS"/>
              </a:rPr>
              <a:t>SPADA</a:t>
            </a:r>
            <a:endParaRPr b="0" lang="en-US" sz="1800" spc="1" strike="noStrike">
              <a:ln w="38160">
                <a:solidFill>
                  <a:srgbClr val="ff5050"/>
                </a:solidFill>
                <a:miter/>
              </a:ln>
              <a:solidFill>
                <a:srgbClr val="ffff66"/>
              </a:solidFill>
              <a:latin typeface="Comic Sans MS"/>
              <a:ea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4140360" y="1268280"/>
            <a:ext cx="863280" cy="1440000"/>
          </a:xfrm>
          <a:prstGeom prst="rect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76364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27672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916520" y="4452840"/>
            <a:ext cx="7351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588000" y="4481640"/>
            <a:ext cx="86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125892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6443640" y="433692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458784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2916360" y="429408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219640" y="1989000"/>
            <a:ext cx="266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666699"/>
                  </a:solidFill>
                  <a:miter/>
                </a:ln>
                <a:solidFill>
                  <a:srgbClr val="ffff66"/>
                </a:solidFill>
                <a:latin typeface="Comic Sans MS"/>
              </a:rPr>
              <a:t>vião</a:t>
            </a:r>
            <a:endParaRPr b="0" lang="en-US" sz="1800" spc="1" strike="noStrike">
              <a:ln w="38160">
                <a:solidFill>
                  <a:srgbClr val="666699"/>
                </a:solidFill>
                <a:miter/>
              </a:ln>
              <a:solidFill>
                <a:srgbClr val="ffff66"/>
              </a:solidFill>
              <a:latin typeface="Comic Sans MS"/>
              <a:ea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1268280"/>
            <a:ext cx="863280" cy="14400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76364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27672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916520" y="4452840"/>
            <a:ext cx="7351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588000" y="4481640"/>
            <a:ext cx="86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2232000" cy="216036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125892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2987640" y="433692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644364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3" action="ppaction://hlinksldjump"/>
          </p:cNvPr>
          <p:cNvSpPr/>
          <p:nvPr/>
        </p:nvSpPr>
        <p:spPr>
          <a:xfrm>
            <a:off x="464328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712880" cy="244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5219640" y="1989000"/>
            <a:ext cx="266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669900"/>
                </a:solidFill>
                <a:latin typeface="Comic Sans MS"/>
              </a:rPr>
              <a:t>NDIO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669900"/>
              </a:solidFill>
              <a:latin typeface="Comic Sans MS"/>
              <a:ea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4140360" y="1268280"/>
            <a:ext cx="863280" cy="14400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692360" y="446400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916520" y="445284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659640" y="448164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133200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6443640" y="433692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458784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rId3" action="ppaction://hlinksldjump"/>
          </p:cNvPr>
          <p:cNvSpPr/>
          <p:nvPr/>
        </p:nvSpPr>
        <p:spPr>
          <a:xfrm>
            <a:off x="306072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31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580000" y="1989000"/>
            <a:ext cx="237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c0c0c0"/>
                  </a:solidFill>
                  <a:miter/>
                </a:ln>
                <a:solidFill>
                  <a:srgbClr val="993300"/>
                </a:solidFill>
                <a:latin typeface="Comic Sans MS"/>
              </a:rPr>
              <a:t>RSO</a:t>
            </a:r>
            <a:endParaRPr b="0" lang="en-US" sz="1800" spc="1" strike="noStrike">
              <a:ln w="38160">
                <a:solidFill>
                  <a:srgbClr val="c0c0c0"/>
                </a:solidFill>
                <a:miter/>
              </a:ln>
              <a:solidFill>
                <a:srgbClr val="993300"/>
              </a:solidFill>
              <a:latin typeface="Comic Sans MS"/>
              <a:ea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4429080" y="1268280"/>
            <a:ext cx="863640" cy="1440000"/>
          </a:xfrm>
          <a:prstGeom prst="rect">
            <a:avLst/>
          </a:prstGeom>
          <a:noFill/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69236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bbe0e3"/>
                </a:solidFill>
                <a:latin typeface="Comic Sans MS"/>
              </a:rPr>
              <a:t>U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bbe0e3"/>
              </a:solidFill>
              <a:latin typeface="Comic Sans MS"/>
              <a:ea typeface="Comic Sans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916520" y="445284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804000" y="4481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216080" y="1162080"/>
            <a:ext cx="2492280" cy="212256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3059280" y="4332240"/>
            <a:ext cx="1223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4643280" y="433692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644364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rId3" action="ppaction://hlinksldjump"/>
          </p:cNvPr>
          <p:cNvSpPr/>
          <p:nvPr/>
        </p:nvSpPr>
        <p:spPr>
          <a:xfrm>
            <a:off x="140328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2232360" cy="20084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0" y="1989000"/>
            <a:ext cx="338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6600"/>
                  </a:solidFill>
                  <a:miter/>
                </a:ln>
                <a:solidFill>
                  <a:srgbClr val="66ccff"/>
                </a:solidFill>
                <a:latin typeface="Comic Sans MS"/>
              </a:rPr>
              <a:t>NICÓRNIO</a:t>
            </a:r>
            <a:endParaRPr b="0" lang="en-US" sz="1800" spc="1" strike="noStrike">
              <a:ln w="38160">
                <a:solidFill>
                  <a:srgbClr val="ff6600"/>
                </a:solidFill>
                <a:miter/>
              </a:ln>
              <a:solidFill>
                <a:srgbClr val="66ccff"/>
              </a:solidFill>
              <a:latin typeface="Comic Sans MS"/>
              <a:ea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3564000" y="1268280"/>
            <a:ext cx="863640" cy="14400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547640" y="4464000"/>
            <a:ext cx="72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276720" y="4464000"/>
            <a:ext cx="790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916520" y="4452840"/>
            <a:ext cx="7351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U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659640" y="448164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133200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3059280" y="4336920"/>
            <a:ext cx="1223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637236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rId3" action="ppaction://hlinksldjump"/>
          </p:cNvPr>
          <p:cNvSpPr/>
          <p:nvPr/>
        </p:nvSpPr>
        <p:spPr>
          <a:xfrm>
            <a:off x="464328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148360" y="1989000"/>
            <a:ext cx="28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latin typeface="Comic Sans MS"/>
              </a:rPr>
              <a:t>NCORA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ccffff"/>
              </a:solidFill>
              <a:latin typeface="Comic Sans MS"/>
              <a:ea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1268280"/>
            <a:ext cx="863640" cy="14400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9236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993366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993366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32360" y="447516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99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0099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04000" y="4481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20907600">
            <a:off x="1476360" y="1341000"/>
            <a:ext cx="2027160" cy="188928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298764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4643280" y="433692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644364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140328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219640" y="1989000"/>
            <a:ext cx="266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RANHA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4140360" y="1268280"/>
            <a:ext cx="863280" cy="1440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692360" y="446400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916520" y="445284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U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659640" y="448164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2592360" cy="2165400"/>
          </a:xfrm>
          <a:prstGeom prst="rect">
            <a:avLst/>
          </a:prstGeom>
          <a:ln w="0">
            <a:noFill/>
          </a:ln>
        </p:spPr>
      </p:pic>
      <p:sp>
        <p:nvSpPr>
          <p:cNvPr id="359" name="">
            <a:hlinkClick r:id="" action="ppaction://hlinkshowjump?jump=nextslide"/>
          </p:cNvPr>
          <p:cNvSpPr/>
          <p:nvPr/>
        </p:nvSpPr>
        <p:spPr>
          <a:xfrm>
            <a:off x="298764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</p:cNvPr>
          <p:cNvSpPr/>
          <p:nvPr/>
        </p:nvSpPr>
        <p:spPr>
          <a:xfrm>
            <a:off x="4643280" y="433692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6443640" y="4303800"/>
            <a:ext cx="122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3" action="ppaction://hlinksldjump"/>
          </p:cNvPr>
          <p:cNvSpPr/>
          <p:nvPr/>
        </p:nvSpPr>
        <p:spPr>
          <a:xfrm>
            <a:off x="140328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36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651640" y="1989000"/>
            <a:ext cx="2233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ccffff"/>
                </a:solidFill>
                <a:latin typeface="Comic Sans MS"/>
              </a:rPr>
              <a:t>culos</a:t>
            </a:r>
            <a:endParaRPr b="0" lang="en-US" sz="1800" spc="1" strike="noStrike">
              <a:ln w="38160">
                <a:solidFill>
                  <a:srgbClr val="3366ff"/>
                </a:solidFill>
                <a:miter/>
              </a:ln>
              <a:solidFill>
                <a:srgbClr val="ccffff"/>
              </a:solidFill>
              <a:latin typeface="Comic Sans MS"/>
              <a:ea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4645080" y="1268280"/>
            <a:ext cx="863640" cy="144000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76364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20364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916520" y="4452840"/>
            <a:ext cx="7351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U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588000" y="4481640"/>
            <a:ext cx="86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3097440" cy="1301760"/>
          </a:xfrm>
          <a:prstGeom prst="rect">
            <a:avLst/>
          </a:prstGeom>
          <a:ln w="0">
            <a:noFill/>
          </a:ln>
        </p:spPr>
      </p:pic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125892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4643280" y="433692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6372360" y="4303800"/>
            <a:ext cx="122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1636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012000" y="1989000"/>
            <a:ext cx="194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NEL</a:t>
            </a:r>
            <a:endParaRPr b="0" lang="en-US" sz="1800" spc="1" strike="noStrike">
              <a:ln w="38160">
                <a:solidFill>
                  <a:srgbClr val="3366ff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4932360" y="1268280"/>
            <a:ext cx="863640" cy="144000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69236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bbe0e3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bbe0e3"/>
              </a:solidFill>
              <a:latin typeface="Comic Sans MS"/>
              <a:ea typeface="Comic Sans M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916520" y="445284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04000" y="4481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393920" y="1052640"/>
            <a:ext cx="2170080" cy="237636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" action="ppaction://hlinkshowjump?jump=nextslide"/>
          </p:cNvPr>
          <p:cNvSpPr/>
          <p:nvPr/>
        </p:nvSpPr>
        <p:spPr>
          <a:xfrm>
            <a:off x="133200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3060720" y="433692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4572000" y="4303800"/>
            <a:ext cx="122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51672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332000" y="1484280"/>
            <a:ext cx="648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7080">
                  <a:solidFill>
                    <a:srgbClr val="3366ff"/>
                  </a:solidFill>
                  <a:miter/>
                </a:ln>
                <a:solidFill>
                  <a:srgbClr val="ffff00">
                    <a:alpha val="7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BOA!</a:t>
            </a:r>
            <a:endParaRPr b="0" lang="en-US" sz="9600" spc="1" strike="noStrike">
              <a:ln w="127080">
                <a:solidFill>
                  <a:srgbClr val="3366ff"/>
                </a:solidFill>
                <a:miter/>
              </a:ln>
              <a:solidFill>
                <a:srgbClr val="ffff00">
                  <a:alpha val="70000"/>
                </a:srgbClr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150920" y="4221000"/>
            <a:ext cx="684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Queres descobrir os ditongos?</a:t>
            </a:r>
            <a:endParaRPr b="0" lang="en-US" sz="1200" spc="1" strike="noStrike">
              <a:ln w="12600">
                <a:solidFill>
                  <a:srgbClr val="ff66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1" name="">
            <a:hlinkClick r:id="" action="ppaction://hlinkshowjump?jump=nextslide"/>
          </p:cNvPr>
          <p:cNvSpPr/>
          <p:nvPr/>
        </p:nvSpPr>
        <p:spPr>
          <a:xfrm>
            <a:off x="900000" y="836640"/>
            <a:ext cx="7272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492360" y="1989000"/>
            <a:ext cx="2924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CHAP</a:t>
            </a:r>
            <a:endParaRPr b="0" lang="en-US" sz="1800" spc="1" strike="noStrike">
              <a:ln w="38160">
                <a:solidFill>
                  <a:srgbClr val="99cc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1973520" cy="2089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589800" y="1268280"/>
            <a:ext cx="1295280" cy="1440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516720" y="4459320"/>
            <a:ext cx="115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ÃO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003640" y="4437000"/>
            <a:ext cx="86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ÉU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297240" y="4437000"/>
            <a:ext cx="7700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OI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692360" y="4437000"/>
            <a:ext cx="798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EI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1403280" y="4332240"/>
            <a:ext cx="129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3060720" y="4336920"/>
            <a:ext cx="129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6443640" y="4303800"/>
            <a:ext cx="129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16360" y="4292640"/>
            <a:ext cx="13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41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205080" y="1989000"/>
            <a:ext cx="187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CAD</a:t>
            </a:r>
            <a:endParaRPr b="0" lang="en-US" sz="1800" spc="1" strike="noStrike">
              <a:ln w="381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5221440" y="1268280"/>
            <a:ext cx="1295280" cy="1440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516720" y="4459320"/>
            <a:ext cx="115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ÃO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5003640" y="4437000"/>
            <a:ext cx="86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AI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714680" y="4437000"/>
            <a:ext cx="7696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E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276720" y="4470480"/>
            <a:ext cx="8697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U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659640" y="2014560"/>
            <a:ext cx="12970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RA</a:t>
            </a:r>
            <a:endParaRPr b="0" lang="en-US" sz="1800" spc="1" strike="noStrike">
              <a:ln w="381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1108080" y="1052640"/>
            <a:ext cx="1879560" cy="237636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4788000" y="4332240"/>
            <a:ext cx="129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3060720" y="4336920"/>
            <a:ext cx="129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6443640" y="4303800"/>
            <a:ext cx="129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32000" y="4292640"/>
            <a:ext cx="13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43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492360" y="1989000"/>
            <a:ext cx="295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8080"/>
                  </a:solidFill>
                  <a:miter/>
                </a:ln>
                <a:solidFill>
                  <a:srgbClr val="66ccff"/>
                </a:solidFill>
                <a:latin typeface="Comic Sans MS"/>
              </a:rPr>
              <a:t>TUBAR</a:t>
            </a:r>
            <a:endParaRPr b="0" lang="en-US" sz="1800" spc="1" strike="noStrike">
              <a:ln w="38160">
                <a:solidFill>
                  <a:srgbClr val="808080"/>
                </a:solidFill>
                <a:miter/>
              </a:ln>
              <a:solidFill>
                <a:srgbClr val="66ccff"/>
              </a:solidFill>
              <a:latin typeface="Comic Sans MS"/>
              <a:ea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6589800" y="1268280"/>
            <a:ext cx="1295280" cy="1440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rcRect l="0" t="15174" r="0" b="16837"/>
          <a:stretch/>
        </p:blipFill>
        <p:spPr>
          <a:xfrm>
            <a:off x="1258920" y="1125360"/>
            <a:ext cx="2017800" cy="17161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516720" y="4459320"/>
            <a:ext cx="115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ÃO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003640" y="4437000"/>
            <a:ext cx="86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A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714680" y="4437000"/>
            <a:ext cx="7696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OI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348000" y="4470480"/>
            <a:ext cx="798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EI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1474920" y="4332240"/>
            <a:ext cx="129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3060720" y="4336920"/>
            <a:ext cx="129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4788000" y="4303800"/>
            <a:ext cx="129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43640" y="4292640"/>
            <a:ext cx="13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45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1711440" cy="20890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325680" y="1989000"/>
            <a:ext cx="17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6600"/>
                  </a:solidFill>
                  <a:miter/>
                </a:ln>
                <a:solidFill>
                  <a:srgbClr val="66ccff"/>
                </a:solidFill>
                <a:latin typeface="Comic Sans MS"/>
              </a:rPr>
              <a:t>BAL</a:t>
            </a:r>
            <a:endParaRPr b="0" lang="en-US" sz="1800" spc="1" strike="noStrike">
              <a:ln w="38160">
                <a:solidFill>
                  <a:srgbClr val="ff6600"/>
                </a:solidFill>
                <a:miter/>
              </a:ln>
              <a:solidFill>
                <a:srgbClr val="66ccff"/>
              </a:solidFill>
              <a:latin typeface="Comic Sans MS"/>
              <a:ea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5148360" y="1268280"/>
            <a:ext cx="1295280" cy="1440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516720" y="4459320"/>
            <a:ext cx="115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ÃO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003640" y="4437000"/>
            <a:ext cx="86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AI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714680" y="4437000"/>
            <a:ext cx="7696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O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348000" y="4470480"/>
            <a:ext cx="798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E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543720" y="2014560"/>
            <a:ext cx="141300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6600"/>
                  </a:solidFill>
                  <a:miter/>
                </a:ln>
                <a:solidFill>
                  <a:srgbClr val="66ccff"/>
                </a:solidFill>
                <a:latin typeface="Comic Sans MS"/>
              </a:rPr>
              <a:t>ÇO</a:t>
            </a:r>
            <a:endParaRPr b="0" lang="en-US" sz="1800" spc="1" strike="noStrike">
              <a:ln w="38160">
                <a:solidFill>
                  <a:srgbClr val="ff6600"/>
                </a:solidFill>
                <a:miter/>
              </a:ln>
              <a:solidFill>
                <a:srgbClr val="66ccff"/>
              </a:solidFill>
              <a:latin typeface="Comic Sans MS"/>
              <a:ea typeface="Comic Sans MS"/>
            </a:endParaRPr>
          </a:p>
        </p:txBody>
      </p:sp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4788000" y="4332240"/>
            <a:ext cx="129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3060720" y="4336920"/>
            <a:ext cx="129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6443640" y="4303800"/>
            <a:ext cx="129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403280" y="4292640"/>
            <a:ext cx="13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46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1596960" cy="22320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211640" y="1989000"/>
            <a:ext cx="3718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SCULTADORES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2771640" y="1268280"/>
            <a:ext cx="129564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665760" y="4459320"/>
            <a:ext cx="86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O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076720" y="4437000"/>
            <a:ext cx="86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E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547640" y="4437000"/>
            <a:ext cx="9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ÃO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154320" y="4470480"/>
            <a:ext cx="11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AU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1403280" y="4332240"/>
            <a:ext cx="129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4861080" y="4336920"/>
            <a:ext cx="129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6443640" y="4303800"/>
            <a:ext cx="129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59280" y="4292640"/>
            <a:ext cx="13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48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716360" y="1989000"/>
            <a:ext cx="1727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LIM</a:t>
            </a:r>
            <a:endParaRPr b="0" lang="en-US" sz="1800" spc="1" strike="noStrike">
              <a:ln w="381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6589800" y="1268280"/>
            <a:ext cx="1295280" cy="14400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516720" y="4459320"/>
            <a:ext cx="115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ÃO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5003640" y="4437000"/>
            <a:ext cx="86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A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714680" y="4437000"/>
            <a:ext cx="7696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OI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348000" y="4470480"/>
            <a:ext cx="798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EI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2663640" cy="1986120"/>
          </a:xfrm>
          <a:prstGeom prst="rect">
            <a:avLst/>
          </a:prstGeom>
          <a:ln w="0">
            <a:noFill/>
          </a:ln>
        </p:spPr>
      </p:pic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1403280" y="4332240"/>
            <a:ext cx="129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" action="ppaction://hlinkshowjump?jump=nextslide"/>
          </p:cNvPr>
          <p:cNvSpPr/>
          <p:nvPr/>
        </p:nvSpPr>
        <p:spPr>
          <a:xfrm>
            <a:off x="3060720" y="4336920"/>
            <a:ext cx="129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4716360" y="4303800"/>
            <a:ext cx="129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443640" y="4292640"/>
            <a:ext cx="13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2"/>
          <a:srcRect l="0" t="8744" r="0" b="0"/>
          <a:stretch/>
        </p:blipFill>
        <p:spPr>
          <a:xfrm>
            <a:off x="1187280" y="1052640"/>
            <a:ext cx="2089440" cy="179532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3995640" y="1989000"/>
            <a:ext cx="93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S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5052960" y="1246320"/>
            <a:ext cx="1295280" cy="143964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6532560" y="1973160"/>
            <a:ext cx="113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IA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516720" y="4459320"/>
            <a:ext cx="1012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U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859280" y="4437000"/>
            <a:ext cx="115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O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547640" y="4437000"/>
            <a:ext cx="9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EI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132000" y="4470480"/>
            <a:ext cx="11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AI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509" name="">
            <a:hlinkClick r:id="" action="ppaction://hlinkshowjump?jump=nextslide"/>
          </p:cNvPr>
          <p:cNvSpPr/>
          <p:nvPr/>
        </p:nvSpPr>
        <p:spPr>
          <a:xfrm>
            <a:off x="1403280" y="4332240"/>
            <a:ext cx="129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nextslide"/>
          </p:cNvPr>
          <p:cNvSpPr/>
          <p:nvPr/>
        </p:nvSpPr>
        <p:spPr>
          <a:xfrm>
            <a:off x="4788000" y="4336920"/>
            <a:ext cx="129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>
            <a:hlinkClick r:id="" action="ppaction://hlinkshowjump?jump=nextslide"/>
          </p:cNvPr>
          <p:cNvSpPr/>
          <p:nvPr/>
        </p:nvSpPr>
        <p:spPr>
          <a:xfrm>
            <a:off x="6372360" y="4303800"/>
            <a:ext cx="129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987640" y="4292640"/>
            <a:ext cx="13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148360" y="1989000"/>
            <a:ext cx="28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808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VELHA</a:t>
            </a:r>
            <a:endParaRPr b="0" lang="en-US" sz="1800" spc="1" strike="noStrike">
              <a:ln w="38160">
                <a:solidFill>
                  <a:srgbClr val="80808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1268280"/>
            <a:ext cx="863640" cy="1440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9236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916520" y="445284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U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04000" y="4481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735280" cy="19843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3059280" y="4332240"/>
            <a:ext cx="1223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643280" y="433692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644364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140328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5148360" y="1989000"/>
            <a:ext cx="129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8080"/>
                  </a:solidFill>
                  <a:miter/>
                </a:ln>
                <a:solidFill>
                  <a:srgbClr val="66ccff"/>
                </a:solidFill>
                <a:latin typeface="Comic Sans MS"/>
              </a:rPr>
              <a:t>LE</a:t>
            </a:r>
            <a:endParaRPr b="0" lang="en-US" sz="1800" spc="1" strike="noStrike">
              <a:ln w="38160">
                <a:solidFill>
                  <a:srgbClr val="808080"/>
                </a:solidFill>
                <a:miter/>
              </a:ln>
              <a:solidFill>
                <a:srgbClr val="66ccff"/>
              </a:solidFill>
              <a:latin typeface="Comic Sans MS"/>
              <a:ea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6589800" y="1268280"/>
            <a:ext cx="1295280" cy="1440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516720" y="4459320"/>
            <a:ext cx="115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ÃO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003640" y="4437000"/>
            <a:ext cx="86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A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714680" y="4437000"/>
            <a:ext cx="7696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OI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348000" y="4470480"/>
            <a:ext cx="798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EI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2880000" cy="2116080"/>
          </a:xfrm>
          <a:prstGeom prst="rect">
            <a:avLst/>
          </a:prstGeom>
          <a:ln w="0">
            <a:noFill/>
          </a:ln>
        </p:spPr>
      </p:pic>
      <p:sp>
        <p:nvSpPr>
          <p:cNvPr id="525" name="">
            <a:hlinkClick r:id="" action="ppaction://hlinkshowjump?jump=nextslide"/>
          </p:cNvPr>
          <p:cNvSpPr/>
          <p:nvPr/>
        </p:nvSpPr>
        <p:spPr>
          <a:xfrm>
            <a:off x="1474920" y="4332240"/>
            <a:ext cx="129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3060720" y="4336920"/>
            <a:ext cx="129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nextslide"/>
          </p:cNvPr>
          <p:cNvSpPr/>
          <p:nvPr/>
        </p:nvSpPr>
        <p:spPr>
          <a:xfrm>
            <a:off x="4788000" y="4303800"/>
            <a:ext cx="129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443640" y="4292640"/>
            <a:ext cx="13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532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309920" y="1989000"/>
            <a:ext cx="3718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TOCARRO</a:t>
            </a:r>
            <a:endParaRPr b="0" lang="en-US" sz="1800" spc="1" strike="noStrike">
              <a:ln w="381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2870280" y="1268280"/>
            <a:ext cx="1295280" cy="14400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665760" y="4459320"/>
            <a:ext cx="86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O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076720" y="4437000"/>
            <a:ext cx="86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E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547640" y="4437000"/>
            <a:ext cx="9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ÃO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154320" y="4470480"/>
            <a:ext cx="11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AU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1042920" y="1476360"/>
            <a:ext cx="1657440" cy="101592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1403280" y="4332240"/>
            <a:ext cx="129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>
            <a:hlinkClick r:id="" action="ppaction://hlinkshowjump?jump=nextslide"/>
          </p:cNvPr>
          <p:cNvSpPr/>
          <p:nvPr/>
        </p:nvSpPr>
        <p:spPr>
          <a:xfrm>
            <a:off x="4861080" y="4336920"/>
            <a:ext cx="129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nextslide"/>
          </p:cNvPr>
          <p:cNvSpPr/>
          <p:nvPr/>
        </p:nvSpPr>
        <p:spPr>
          <a:xfrm>
            <a:off x="6443640" y="4303800"/>
            <a:ext cx="129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59280" y="4292640"/>
            <a:ext cx="13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54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1832040" cy="23763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588000" y="4459320"/>
            <a:ext cx="941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AI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859280" y="4437000"/>
            <a:ext cx="122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ÃO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547640" y="4437000"/>
            <a:ext cx="107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AU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276720" y="4470480"/>
            <a:ext cx="985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OI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267080" y="1989000"/>
            <a:ext cx="17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69696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FOG</a:t>
            </a:r>
            <a:endParaRPr b="0" lang="en-US" sz="1800" spc="1" strike="noStrike">
              <a:ln w="38160">
                <a:solidFill>
                  <a:srgbClr val="969696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6156360" y="1268280"/>
            <a:ext cx="1295280" cy="1440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" action="ppaction://hlinkshowjump?jump=nextslide"/>
          </p:cNvPr>
          <p:cNvSpPr/>
          <p:nvPr/>
        </p:nvSpPr>
        <p:spPr>
          <a:xfrm>
            <a:off x="1414440" y="4332240"/>
            <a:ext cx="129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" action="ppaction://hlinkshowjump?jump=nextslide"/>
          </p:cNvPr>
          <p:cNvSpPr/>
          <p:nvPr/>
        </p:nvSpPr>
        <p:spPr>
          <a:xfrm>
            <a:off x="3083040" y="4336920"/>
            <a:ext cx="129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" action="ppaction://hlinkshowjump?jump=nextslide"/>
          </p:cNvPr>
          <p:cNvSpPr/>
          <p:nvPr/>
        </p:nvSpPr>
        <p:spPr>
          <a:xfrm>
            <a:off x="6443640" y="4303800"/>
            <a:ext cx="129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88000" y="4292640"/>
            <a:ext cx="13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56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1928880" cy="23036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588000" y="4459320"/>
            <a:ext cx="941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O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859280" y="4437000"/>
            <a:ext cx="122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AI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547640" y="4437000"/>
            <a:ext cx="107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ÃO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276720" y="4470480"/>
            <a:ext cx="985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U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5003640" y="1989000"/>
            <a:ext cx="9925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33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C</a:t>
            </a:r>
            <a:endParaRPr b="0" lang="en-US" sz="1800" spc="1" strike="noStrike">
              <a:ln w="38160">
                <a:solidFill>
                  <a:srgbClr val="9933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1268280"/>
            <a:ext cx="1295280" cy="1440000"/>
          </a:xfrm>
          <a:prstGeom prst="rect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>
            <a:hlinkClick r:id="" action="ppaction://hlinkshowjump?jump=nextslide"/>
          </p:cNvPr>
          <p:cNvSpPr/>
          <p:nvPr/>
        </p:nvSpPr>
        <p:spPr>
          <a:xfrm>
            <a:off x="4788000" y="4332240"/>
            <a:ext cx="129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>
            <a:hlinkClick r:id="" action="ppaction://hlinkshowjump?jump=nextslide"/>
          </p:cNvPr>
          <p:cNvSpPr/>
          <p:nvPr/>
        </p:nvSpPr>
        <p:spPr>
          <a:xfrm>
            <a:off x="3060720" y="4336920"/>
            <a:ext cx="129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6443640" y="4303800"/>
            <a:ext cx="129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403280" y="4292640"/>
            <a:ext cx="13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58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276720" y="1989000"/>
            <a:ext cx="2449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CALÇ</a:t>
            </a:r>
            <a:endParaRPr b="0" lang="en-US" sz="1800" spc="1" strike="noStrike">
              <a:ln w="38160">
                <a:solidFill>
                  <a:srgbClr val="8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5870520" y="1268280"/>
            <a:ext cx="1295280" cy="144000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516720" y="4459320"/>
            <a:ext cx="115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ÃO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5003640" y="4437000"/>
            <a:ext cx="86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A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714680" y="4437000"/>
            <a:ext cx="7696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ÕE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348000" y="4470480"/>
            <a:ext cx="798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EI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2052720" cy="230364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 txBox="1"/>
          <p:nvPr/>
        </p:nvSpPr>
        <p:spPr>
          <a:xfrm>
            <a:off x="7308720" y="1989000"/>
            <a:ext cx="57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S</a:t>
            </a:r>
            <a:endParaRPr b="0" lang="en-US" sz="1800" spc="1" strike="noStrike">
              <a:ln w="38160">
                <a:solidFill>
                  <a:srgbClr val="8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590" name="">
            <a:hlinkClick r:id="" action="ppaction://hlinkshowjump?jump=nextslide"/>
          </p:cNvPr>
          <p:cNvSpPr/>
          <p:nvPr/>
        </p:nvSpPr>
        <p:spPr>
          <a:xfrm>
            <a:off x="4788000" y="4332240"/>
            <a:ext cx="129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3060720" y="4336920"/>
            <a:ext cx="129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6443640" y="4303800"/>
            <a:ext cx="129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76360" y="4292640"/>
            <a:ext cx="13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59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1943280" cy="20876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 txBox="1"/>
          <p:nvPr/>
        </p:nvSpPr>
        <p:spPr>
          <a:xfrm>
            <a:off x="3419640" y="1989000"/>
            <a:ext cx="288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6633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TELEVIS</a:t>
            </a:r>
            <a:endParaRPr b="0" lang="en-US" sz="1800" spc="1" strike="noStrike">
              <a:ln w="38160">
                <a:solidFill>
                  <a:srgbClr val="996633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6516720" y="1268280"/>
            <a:ext cx="1295280" cy="1440000"/>
          </a:xfrm>
          <a:prstGeom prst="rect">
            <a:avLst/>
          </a:prstGeom>
          <a:noFill/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665760" y="4459320"/>
            <a:ext cx="86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EI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932360" y="4459320"/>
            <a:ext cx="107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OI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547640" y="4437000"/>
            <a:ext cx="107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AU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59280" y="4470480"/>
            <a:ext cx="129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ÃO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606" name="">
            <a:hlinkClick r:id="" action="ppaction://hlinkshowjump?jump=nextslide"/>
          </p:cNvPr>
          <p:cNvSpPr/>
          <p:nvPr/>
        </p:nvSpPr>
        <p:spPr>
          <a:xfrm>
            <a:off x="1414440" y="4332240"/>
            <a:ext cx="129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" action="ppaction://hlinkshowjump?jump=nextslide"/>
          </p:cNvPr>
          <p:cNvSpPr/>
          <p:nvPr/>
        </p:nvSpPr>
        <p:spPr>
          <a:xfrm>
            <a:off x="4859280" y="4336920"/>
            <a:ext cx="129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>
            <a:hlinkClick r:id="" action="ppaction://hlinkshowjump?jump=nextslide"/>
          </p:cNvPr>
          <p:cNvSpPr/>
          <p:nvPr/>
        </p:nvSpPr>
        <p:spPr>
          <a:xfrm>
            <a:off x="6443640" y="4303800"/>
            <a:ext cx="129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059280" y="4292640"/>
            <a:ext cx="13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61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2016360" cy="182088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 txBox="1"/>
          <p:nvPr/>
        </p:nvSpPr>
        <p:spPr>
          <a:xfrm>
            <a:off x="3492360" y="1989000"/>
            <a:ext cx="86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6633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</a:t>
            </a:r>
            <a:endParaRPr b="0" lang="en-US" sz="1800" spc="1" strike="noStrike">
              <a:ln w="38160">
                <a:solidFill>
                  <a:srgbClr val="996633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4500720" y="1268280"/>
            <a:ext cx="1295280" cy="1440000"/>
          </a:xfrm>
          <a:prstGeom prst="rect">
            <a:avLst/>
          </a:prstGeom>
          <a:noFill/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940360" y="1978200"/>
            <a:ext cx="2016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6633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XES</a:t>
            </a:r>
            <a:endParaRPr b="0" lang="en-US" sz="1800" spc="1" strike="noStrike">
              <a:ln w="38160">
                <a:solidFill>
                  <a:srgbClr val="996633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300720" y="4459320"/>
            <a:ext cx="1366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ÃO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716360" y="4459320"/>
            <a:ext cx="129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AU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547640" y="4437000"/>
            <a:ext cx="10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U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132000" y="4486320"/>
            <a:ext cx="107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E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623" name="">
            <a:hlinkClick r:id="" action="ppaction://hlinkshowjump?jump=nextslide"/>
          </p:cNvPr>
          <p:cNvSpPr/>
          <p:nvPr/>
        </p:nvSpPr>
        <p:spPr>
          <a:xfrm>
            <a:off x="1403280" y="4332240"/>
            <a:ext cx="129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789440" y="4336920"/>
            <a:ext cx="129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>
            <a:hlinkClick r:id="" action="ppaction://hlinkshowjump?jump=nextslide"/>
          </p:cNvPr>
          <p:cNvSpPr/>
          <p:nvPr/>
        </p:nvSpPr>
        <p:spPr>
          <a:xfrm>
            <a:off x="6300720" y="4303800"/>
            <a:ext cx="1440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916360" y="4292640"/>
            <a:ext cx="13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63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588000" y="4459320"/>
            <a:ext cx="941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AI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859280" y="4437000"/>
            <a:ext cx="122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ÃO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547640" y="4437000"/>
            <a:ext cx="107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AU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276720" y="4470480"/>
            <a:ext cx="985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OI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292720" y="1989000"/>
            <a:ext cx="86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808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M</a:t>
            </a:r>
            <a:endParaRPr b="0" lang="en-US" sz="1800" spc="1" strike="noStrike">
              <a:ln w="38160">
                <a:solidFill>
                  <a:srgbClr val="80808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6300720" y="1268280"/>
            <a:ext cx="1295640" cy="1440000"/>
          </a:xfrm>
          <a:prstGeom prst="rect">
            <a:avLst/>
          </a:prstGeom>
          <a:noFill/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1950840" cy="2303640"/>
          </a:xfrm>
          <a:prstGeom prst="rect">
            <a:avLst/>
          </a:prstGeom>
          <a:ln w="0">
            <a:noFill/>
          </a:ln>
        </p:spPr>
      </p:pic>
      <p:sp>
        <p:nvSpPr>
          <p:cNvPr id="639" name="">
            <a:hlinkClick r:id="" action="ppaction://hlinkshowjump?jump=nextslide"/>
          </p:cNvPr>
          <p:cNvSpPr/>
          <p:nvPr/>
        </p:nvSpPr>
        <p:spPr>
          <a:xfrm>
            <a:off x="1403280" y="4332240"/>
            <a:ext cx="129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3060720" y="4336920"/>
            <a:ext cx="129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>
            <a:hlinkClick r:id="" action="ppaction://hlinkshowjump?jump=nextslide"/>
          </p:cNvPr>
          <p:cNvSpPr/>
          <p:nvPr/>
        </p:nvSpPr>
        <p:spPr>
          <a:xfrm>
            <a:off x="6443640" y="4303800"/>
            <a:ext cx="129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788000" y="4292640"/>
            <a:ext cx="13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64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997440" y="1989000"/>
            <a:ext cx="187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8080"/>
                  </a:solidFill>
                  <a:miter/>
                </a:ln>
                <a:solidFill>
                  <a:srgbClr val="bbe0e3"/>
                </a:solidFill>
                <a:latin typeface="Comic Sans MS"/>
              </a:rPr>
              <a:t>BAL</a:t>
            </a:r>
            <a:endParaRPr b="0" lang="en-US" sz="1800" spc="1" strike="noStrike">
              <a:ln w="38160">
                <a:solidFill>
                  <a:srgbClr val="808080"/>
                </a:solidFill>
                <a:miter/>
              </a:ln>
              <a:solidFill>
                <a:srgbClr val="bbe0e3"/>
              </a:solidFill>
              <a:latin typeface="Comic Sans MS"/>
              <a:ea typeface="Comic Sans MS"/>
            </a:endParaRPr>
          </a:p>
        </p:txBody>
      </p:sp>
      <p:sp>
        <p:nvSpPr>
          <p:cNvPr id="648" name=""/>
          <p:cNvSpPr/>
          <p:nvPr/>
        </p:nvSpPr>
        <p:spPr>
          <a:xfrm>
            <a:off x="6013440" y="1268280"/>
            <a:ext cx="1295280" cy="14400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7380360" y="1978200"/>
            <a:ext cx="576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8080"/>
                  </a:solidFill>
                  <a:miter/>
                </a:ln>
                <a:solidFill>
                  <a:srgbClr val="bbe0e3"/>
                </a:solidFill>
                <a:latin typeface="Comic Sans MS"/>
              </a:rPr>
              <a:t>A</a:t>
            </a:r>
            <a:endParaRPr b="0" lang="en-US" sz="1800" spc="1" strike="noStrike">
              <a:ln w="38160">
                <a:solidFill>
                  <a:srgbClr val="808080"/>
                </a:solidFill>
                <a:miter/>
              </a:ln>
              <a:solidFill>
                <a:srgbClr val="bbe0e3"/>
              </a:solidFill>
              <a:latin typeface="Comic Sans MS"/>
              <a:ea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300720" y="4459320"/>
            <a:ext cx="1366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ÃO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716360" y="4459320"/>
            <a:ext cx="129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9933"/>
                </a:solidFill>
                <a:latin typeface="Comic Sans MS"/>
              </a:rPr>
              <a:t>AU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339933"/>
              </a:solidFill>
              <a:latin typeface="Comic Sans MS"/>
              <a:ea typeface="Comic Sans MS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547640" y="4437000"/>
            <a:ext cx="10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UI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132000" y="4486320"/>
            <a:ext cx="107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E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2521080" cy="1868400"/>
          </a:xfrm>
          <a:prstGeom prst="rect">
            <a:avLst/>
          </a:prstGeom>
          <a:ln w="0">
            <a:noFill/>
          </a:ln>
        </p:spPr>
      </p:pic>
      <p:sp>
        <p:nvSpPr>
          <p:cNvPr id="656" name="">
            <a:hlinkClick r:id="" action="ppaction://hlinkshowjump?jump=nextslide"/>
          </p:cNvPr>
          <p:cNvSpPr/>
          <p:nvPr/>
        </p:nvSpPr>
        <p:spPr>
          <a:xfrm>
            <a:off x="1403280" y="4332240"/>
            <a:ext cx="129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" action="ppaction://hlinkshowjump?jump=nextslide"/>
          </p:cNvPr>
          <p:cNvSpPr/>
          <p:nvPr/>
        </p:nvSpPr>
        <p:spPr>
          <a:xfrm>
            <a:off x="4727520" y="4336920"/>
            <a:ext cx="1357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" action="ppaction://hlinkshowjump?jump=nextslide"/>
          </p:cNvPr>
          <p:cNvSpPr/>
          <p:nvPr/>
        </p:nvSpPr>
        <p:spPr>
          <a:xfrm>
            <a:off x="6300720" y="4303800"/>
            <a:ext cx="1440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4292640"/>
            <a:ext cx="13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1332000" y="1268280"/>
            <a:ext cx="648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7080">
                  <a:solidFill>
                    <a:srgbClr val="3366ff"/>
                  </a:solidFill>
                  <a:miter/>
                </a:ln>
                <a:solidFill>
                  <a:srgbClr val="ffff00">
                    <a:alpha val="7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BOA!</a:t>
            </a:r>
            <a:endParaRPr b="0" lang="en-US" sz="9600" spc="1" strike="noStrike">
              <a:ln w="127080">
                <a:solidFill>
                  <a:srgbClr val="3366ff"/>
                </a:solidFill>
                <a:miter/>
              </a:ln>
              <a:solidFill>
                <a:srgbClr val="ffff00">
                  <a:alpha val="70000"/>
                </a:srgbClr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403280" y="3716280"/>
            <a:ext cx="63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erminaste</a:t>
            </a:r>
            <a:endParaRPr b="0" lang="en-US" sz="2000" spc="1" strike="noStrike">
              <a:ln w="25560">
                <a:solidFill>
                  <a:srgbClr val="ff66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6" name="">
            <a:hlinkClick r:id="" action="ppaction://hlinkshowjump?jump=endshow"/>
          </p:cNvPr>
          <p:cNvSpPr/>
          <p:nvPr/>
        </p:nvSpPr>
        <p:spPr>
          <a:xfrm>
            <a:off x="900000" y="907920"/>
            <a:ext cx="72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12000" y="1989000"/>
            <a:ext cx="194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GLO</a:t>
            </a:r>
            <a:endParaRPr b="0" lang="en-US" sz="1800" spc="1" strike="noStrike">
              <a:ln w="38160">
                <a:solidFill>
                  <a:srgbClr val="00ffff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268280"/>
            <a:ext cx="863640" cy="1440000"/>
          </a:xfrm>
          <a:prstGeom prst="rect">
            <a:avLst/>
          </a:prstGeom>
          <a:noFill/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4280" y="4259160"/>
            <a:ext cx="6697800" cy="122400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92360" y="446400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bbe0e3"/>
                </a:solidFill>
                <a:latin typeface="Comic Sans MS"/>
              </a:rPr>
              <a:t>U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bbe0e3"/>
              </a:solidFill>
              <a:latin typeface="Comic Sans MS"/>
              <a:ea typeface="Comic Sans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64000" y="4464000"/>
            <a:ext cx="2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16520" y="445284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3366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04000" y="4481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cc"/>
                  </a:solidFill>
                  <a:miter/>
                </a:ln>
                <a:solidFill>
                  <a:srgbClr val="33cccc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99cc"/>
                </a:solidFill>
                <a:miter/>
              </a:ln>
              <a:solidFill>
                <a:srgbClr val="33cccc"/>
              </a:solidFill>
              <a:latin typeface="Comic Sans MS"/>
              <a:ea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2376360" cy="214776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1403280" y="43322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6516720" y="433692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4643280" y="434340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3060720" y="4292640"/>
            <a:ext cx="122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258920" y="1268280"/>
            <a:ext cx="33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63360">
                  <a:solidFill>
                    <a:srgbClr val="ff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Oh!</a:t>
            </a:r>
            <a:endParaRPr b="0" lang="en-US" sz="9600" spc="1" strike="noStrike">
              <a:ln w="63360">
                <a:solidFill>
                  <a:srgbClr val="ff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7280" y="3860640"/>
            <a:ext cx="676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>
                    <a:alpha val="70000"/>
                  </a:srgbClr>
                </a:solidFill>
                <a:latin typeface="Tempus Sans ITC"/>
              </a:rPr>
              <a:t>Tenta de novo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>
                  <a:alpha val="7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6:07:18Z</dcterms:created>
  <dc:creator>iies-consultor590</dc:creator>
  <dc:description/>
  <dc:language>en-US</dc:language>
  <cp:lastModifiedBy>iies-consultor590</cp:lastModifiedBy>
  <dcterms:modified xsi:type="dcterms:W3CDTF">2008-05-20T14:49:25Z</dcterms:modified>
  <cp:revision>25</cp:revision>
  <dc:subject/>
  <dc:title>Back to School 2006</dc:title>
</cp:coreProperties>
</file>