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718-6E45-42FD-81E7-0F47AED2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4C3-51EA-4DAF-8D33-50EECA99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FFD-0B04-4A06-9DF1-27797652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2350-3A1D-4663-9ECF-1CB24D8B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0D0-9F81-4FFB-83AC-914FCF2C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346-1380-4556-A5AB-C1C8D4A1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592-9F5F-40D2-A7AB-CFAD0948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5C6-C7B9-4A79-9941-CAF128E0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D29-CF69-4925-BEA4-C66A6B14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83A-9246-494B-BC3F-A11357E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559-91CA-4971-B34B-28353DF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919-D167-4341-A60A-5FEC617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A6C-89AD-4F3A-9AB0-A3AC26957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25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5878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>
            <a:hlinkClick r:id="" action="ppaction://hlinkshowjump?jump=endshow"/>
          </p:cNvPr>
          <p:cNvSpPr/>
          <p:nvPr/>
        </p:nvSpPr>
        <p:spPr>
          <a:xfrm>
            <a:off x="7885080" y="6093000"/>
            <a:ext cx="1042920" cy="765000"/>
          </a:xfrm>
          <a:custGeom>
            <a:avLst/>
            <a:gdLst>
              <a:gd name="textAreaLeft" fmla="*/ 49320 w 1042920"/>
              <a:gd name="textAreaRight" fmla="*/ 993600 w 1042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18221" y="10800"/>
                </a:moveTo>
                <a:lnTo>
                  <a:pt x="7715" y="17806"/>
                </a:lnTo>
                <a:lnTo>
                  <a:pt x="7715" y="3794"/>
                </a:lnTo>
                <a:close/>
              </a:path>
              <a:path fill="darken" w="29443" h="21600">
                <a:moveTo>
                  <a:pt x="20066" y="3794"/>
                </a:moveTo>
                <a:lnTo>
                  <a:pt x="20066" y="17806"/>
                </a:lnTo>
                <a:lnTo>
                  <a:pt x="21728" y="17806"/>
                </a:lnTo>
                <a:lnTo>
                  <a:pt x="21728" y="3794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12000" y="5950080"/>
            <a:ext cx="1332000" cy="907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6:25:08Z</dcterms:created>
  <dc:creator>Betsy</dc:creator>
  <dc:description/>
  <dc:language>en-US</dc:language>
  <cp:lastModifiedBy>Smets</cp:lastModifiedBy>
  <dcterms:modified xsi:type="dcterms:W3CDTF">2010-03-26T05:49:11Z</dcterms:modified>
  <cp:revision>3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