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76D-0361-4B8A-B99B-EB17DAF4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71C-C77C-4D85-940D-51F7E53B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601-12D6-41B0-BCDA-5348DCB1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DF9-B042-4085-99D3-59CA8D48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581-CAF4-4143-8505-4B2FE72C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585-2D8B-4E3F-B01A-D3E07B8D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C88-0A81-4BA5-A2FF-F99ADADF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677-8DF4-42A4-863B-EE633FD8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170-14EF-4081-B596-99CABCF8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8CE-98DF-4C4C-AF9B-11227337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816-7421-4E1F-9AF3-FAAAE330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3FE-113A-4DBA-8078-070E2F4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3A9A-644A-4516-AB16-B78DD84C8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2560" cy="58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5878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" name="">
            <a:hlinkClick r:id="" action="ppaction://hlinkshowjump?jump=endshow"/>
          </p:cNvPr>
          <p:cNvSpPr/>
          <p:nvPr/>
        </p:nvSpPr>
        <p:spPr>
          <a:xfrm>
            <a:off x="7885080" y="6093000"/>
            <a:ext cx="1042920" cy="76500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18221" y="10800"/>
                </a:moveTo>
                <a:lnTo>
                  <a:pt x="7715" y="17806"/>
                </a:lnTo>
                <a:lnTo>
                  <a:pt x="7715" y="3794"/>
                </a:lnTo>
                <a:close/>
              </a:path>
              <a:path fill="darken" w="29443" h="21600">
                <a:moveTo>
                  <a:pt x="20066" y="3794"/>
                </a:moveTo>
                <a:lnTo>
                  <a:pt x="20066" y="17806"/>
                </a:lnTo>
                <a:lnTo>
                  <a:pt x="21728" y="17806"/>
                </a:lnTo>
                <a:lnTo>
                  <a:pt x="21728" y="3794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12000" y="5950080"/>
            <a:ext cx="1332000" cy="907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6:25:08Z</dcterms:created>
  <dc:creator>Betsy</dc:creator>
  <dc:description/>
  <dc:language>en-US</dc:language>
  <cp:lastModifiedBy>Smets</cp:lastModifiedBy>
  <dcterms:modified xsi:type="dcterms:W3CDTF">2010-03-26T05:49:11Z</dcterms:modified>
  <cp:revision>3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