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A4D-9A53-4F6D-A04C-053DCE18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9B1-E88F-4D53-B28F-6CA297E5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455-DD0A-4A52-A160-61C73048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3D1-F7EE-4EEB-8AF8-77B1659F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93D-18BD-4A02-9A8C-23B9284A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07C-B560-4E0A-94F4-43E7E98A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3F8-C646-4BCC-AEDC-834D8D0F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F9A-F835-4CF5-A2B9-89A1AE33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A91-8C91-4C62-9916-72D2D8C8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D55-5BC2-4B13-A36B-2BB5D192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67D-E70A-44D7-8491-1DE92E2D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DC4-3C9A-4BB6-9545-89D86BC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82096-49D8-40D3-9E06-A180EBEB68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CFFB8-772F-4B9F-BEFD-9BDCF90FAE3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5:58:06Z</dcterms:created>
  <dc:creator>최봉수</dc:creator>
  <dc:description/>
  <dc:language>en-US</dc:language>
  <cp:lastModifiedBy>맛있다 군만두</cp:lastModifiedBy>
  <dcterms:modified xsi:type="dcterms:W3CDTF">2024-09-24T08:01:22Z</dcterms:modified>
  <cp:revision>3</cp:revision>
  <dc:subject/>
  <dc:title>슬라이드 1</dc:title>
</cp:coreProperties>
</file>