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E02-BE23-4C5D-965C-9C8D0AB2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B96-59DA-440C-A6EA-FED8EEE1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B39-C40B-4F3B-B929-C3A3B2DF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54A8-E07F-47C6-B900-B79D18C6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8BC-C169-4FF4-802C-0CC30F40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F2F-0733-4690-857A-E94B33C0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C9C-A36B-4658-931B-F685CA62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4E3-2A19-4EE1-8E55-01B00A75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E2E-D049-495D-A03F-E460A38C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7EE-A614-4558-B891-C2C162FE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566-B133-4E93-9CB6-79CEA16F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7EB9-1A87-499B-8EDE-5593F561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3F50A-25BA-4768-854D-440D0D12572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BC530-59FC-41B0-81C2-65DBD532937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5:58:06Z</dcterms:created>
  <dc:creator>최봉수</dc:creator>
  <dc:description/>
  <dc:language>en-US</dc:language>
  <cp:lastModifiedBy>맛있다 군만두</cp:lastModifiedBy>
  <dcterms:modified xsi:type="dcterms:W3CDTF">2024-09-24T08:01:22Z</dcterms:modified>
  <cp:revision>3</cp:revision>
  <dc:subject/>
  <dc:title>슬라이드 1</dc:title>
</cp:coreProperties>
</file>