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978-FA4E-40C5-89E8-887CDAE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C21-DF16-4A26-9698-3870A84D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533-BF52-48E2-9263-C6014AAD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E35-87CE-4575-9C48-1BBE7358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996-AA5B-4FE1-809D-DDF4F79F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792-9CC0-45A2-A8DE-9031D26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F84-F042-4CB8-8714-4C56C6A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3EB-12A6-4A0D-A161-7130EB11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3F8-7204-468A-94C3-8D734468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B3D-9E73-4974-94D6-E66927B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45C-4070-484F-88A8-D34B79F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E51-0F2F-4425-B692-C05D06B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3E8FE-E012-457C-B6D7-2B2437BB1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B3785-A4A3-4DC0-8DD8-187D381E033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58:26Z</dcterms:created>
  <dc:creator>최봉수</dc:creator>
  <dc:description/>
  <dc:language>en-US</dc:language>
  <cp:lastModifiedBy>군만두 맛있다</cp:lastModifiedBy>
  <dcterms:modified xsi:type="dcterms:W3CDTF">2023-07-12T04:06:06Z</dcterms:modified>
  <cp:revision>2</cp:revision>
  <dc:subject/>
  <dc:title>슬라이드 1</dc:title>
</cp:coreProperties>
</file>