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D9E-190A-4F83-B32A-E4249CCD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1FC-D7D9-40CF-B679-A3EB2587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ABC-8675-497D-AAE3-64EB19BA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9D6-82C1-499E-8524-B5A1E86B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9FB-7480-4F2A-8214-C9EAA4D3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E8A-DF30-448D-ABBD-BA0A3C1D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11E-AEA0-4FFF-ABFD-D629054D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C51-9BD8-4C86-A774-2B186D35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D7A-F76A-4758-B94E-01A563EC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86A-E766-4E77-B85E-58754C9D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9B6-2594-4941-A7F4-5B3B9C40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3C3-18E4-4517-9ACF-19AA5DB3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9E1B7-3856-47B3-9BC3-2A7E4CA6E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62E2F-DAF7-4DE6-B7CA-BF40B382EA1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58:26Z</dcterms:created>
  <dc:creator>최봉수</dc:creator>
  <dc:description/>
  <dc:language>en-US</dc:language>
  <cp:lastModifiedBy>군만두 맛있다</cp:lastModifiedBy>
  <dcterms:modified xsi:type="dcterms:W3CDTF">2023-07-12T04:06:06Z</dcterms:modified>
  <cp:revision>2</cp:revision>
  <dc:subject/>
  <dc:title>슬라이드 1</dc:title>
</cp:coreProperties>
</file>