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Frans%20Bauer%20&amp;%20Kabouter%20Plop%20-%20Weet%20dat%20het%20zonnetje%20schijnt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CE5-4066-4D43-A527-C566650B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9EF-EE5B-4CE5-8E09-DB35FA18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D8F-36C9-4390-8222-891FCD34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7A9-2E1C-42A2-AC09-A79D8EAA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1F1-3C25-4542-89DA-8CEDE8F8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50E-4462-4B3B-A6C5-C48A8B00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818-ABD7-4292-BEED-440CFA03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603-9FF3-44A1-BB02-8F4A5430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2C5-F48D-497E-905B-DB647B1F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609-C4FB-4FC2-9EE6-37A4685F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047-BC26-40EE-83A2-CFF0352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9F2-1C92-4917-B1B7-6FF89573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2F00-0568-428F-B9D8-7A0669D74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ans%20Bauer%20&amp;%20Kabouter%20Plop%20-%20Weet%20dat%20het%20zonnetje%20schijnt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0520" y="1700280"/>
            <a:ext cx="242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IC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4160" y="278136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N 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3080" y="4005360"/>
            <a:ext cx="43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UISTERN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5516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en powerpoint van de K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7080" y="981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em het le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4360" y="2867040"/>
            <a:ext cx="27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zoals he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4954680"/>
            <a:ext cx="40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 nog komt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0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8880" y="76500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n zul je zi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2160" y="530064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 je gaat str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775280" cy="6048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69080" y="213372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n Frank en G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9680" y="5516640"/>
            <a:ext cx="56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ww.frank-gea.drentsweb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500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61600" y="706320"/>
            <a:ext cx="469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 is altijd li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ar lich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9760" y="4869000"/>
            <a:ext cx="63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 is altijd duister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ar duisterni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905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34520" y="765000"/>
            <a:ext cx="64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rinner je als het donker 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71960" y="5373720"/>
            <a:ext cx="47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 je vooruit kijkt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70880" y="765000"/>
            <a:ext cx="446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Elke k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at je vooruit kij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8680" y="5445000"/>
            <a:ext cx="43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zul je het licht z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90160" y="5157720"/>
            <a:ext cx="32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ijk niet te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35800" y="993600"/>
            <a:ext cx="47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duistern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e je achterla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9960" y="5516640"/>
            <a:ext cx="76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an verruild worden door het li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832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42520" y="5013360"/>
            <a:ext cx="437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s je de duister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anva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64320" y="620640"/>
            <a:ext cx="44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ijk voo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 zie het li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07:06:07Z</dcterms:created>
  <dc:creator>Frank</dc:creator>
  <dc:description/>
  <dc:language>en-US</dc:language>
  <cp:lastModifiedBy>Smets</cp:lastModifiedBy>
  <dcterms:modified xsi:type="dcterms:W3CDTF">2008-09-21T04:54:58Z</dcterms:modified>
  <cp:revision>4</cp:revision>
  <dc:subject/>
  <dc:title>Dia 1</dc:title>
</cp:coreProperties>
</file>