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rans%20Bauer%20&amp;%20Kabouter%20Plop%20-%20Weet%20dat%20het%20zonnetje%20schijnt.wav" ContentType="audio/x-wav"/>
  <Override PartName="/ppt/media/image8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1CC-30CA-441D-899B-17088A40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D26-0754-4FDB-BB2A-E45525E9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886-3B8A-4583-A7D0-4033A77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ADC-9E2E-4CA2-8F58-90DFACAC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43B-0CB3-4B87-98EA-DC4CDD5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C8B-381B-4A10-A0FD-5D1B255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5EE-FCAC-479C-8C70-D702AFB9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197-09C4-47DD-A292-61343ED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478-3CB9-4763-8514-92B8D29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07E-3354-4112-BC3B-0DD6622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520-DD8A-4AA4-B685-BA2C90B0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77E-3DFA-4A76-8A13-70FCE28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DD64-5BE7-4E96-BC53-E041E958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ans%20Bauer%20&amp;%20Kabouter%20Plop%20-%20Weet%20dat%20het%20zonnetje%20schijn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0520" y="1700280"/>
            <a:ext cx="24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IC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4160" y="278136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N 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3080" y="400536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UISTERN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5516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en powerpoint van de K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7080" y="981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em het l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4360" y="286704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zoals he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4954680"/>
            <a:ext cx="40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 nog komt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8880" y="76500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n zul je zi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42160" y="530064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gaat str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775280" cy="6048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69080" y="213372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n Frank en G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9680" y="5516640"/>
            <a:ext cx="56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ww.frank-gea.drentsweb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12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61600" y="706320"/>
            <a:ext cx="469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 is altijd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ar lich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9760" y="4869000"/>
            <a:ext cx="63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 is altijd duister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ar duisternis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34520" y="765000"/>
            <a:ext cx="64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rinner je als het donker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1960" y="5373720"/>
            <a:ext cx="47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at je vooruit kijkt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70880" y="765000"/>
            <a:ext cx="44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lke k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at je vooruit kij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8680" y="544500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zul je het licht z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90160" y="515772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jk niet te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35800" y="99360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duistern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e je achterla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960" y="5516640"/>
            <a:ext cx="76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an verruild worden door het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83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2520" y="5013360"/>
            <a:ext cx="437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s je de duister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anv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48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64320" y="620640"/>
            <a:ext cx="44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ijk voo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 zie het li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07:06:07Z</dcterms:created>
  <dc:creator>Frank</dc:creator>
  <dc:description/>
  <dc:language>en-US</dc:language>
  <cp:lastModifiedBy>Smets</cp:lastModifiedBy>
  <dcterms:modified xsi:type="dcterms:W3CDTF">2008-09-21T04:54:58Z</dcterms:modified>
  <cp:revision>4</cp:revision>
  <dc:subject/>
  <dc:title>Dia 1</dc:title>
</cp:coreProperties>
</file>