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1F5-8F31-4027-AE2E-C4EE3471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3D6-04B7-488E-95AB-454E95D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337-45D0-4C4E-84B3-19446B3D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FCF-8B4B-43AC-8571-3A4ED1D0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4EDB-8CA9-4111-B3F3-95681D2B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A00B-399B-49DD-9472-18D2E3F3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4979-6143-41CE-861B-32EE803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9618-E12C-4FED-8D11-1B177F0B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55ED-06B5-49DA-B32F-2944AB8B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AF1C-7014-4A3A-A088-B91AF01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418-FFDB-4DF2-ADF7-92C82CB9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A34-31F9-4E7F-A1E7-031F21B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BEA0-78AC-4CC5-9297-B7DAB81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FBAF-ABC5-4C56-A10E-0C27A5A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25B-391C-4A73-9503-BF0C75A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50B8-A778-4A99-A6BE-8C4EBEED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8DE-A919-4316-BD2D-7D887E15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5A9-0439-41DA-8B04-AD82ADCB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A6A-ED1F-4E66-AB56-AF0A234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282-48E8-49EA-9EA3-2AEDA374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4D7-C7DE-4DF3-BF8A-F58CB115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355-CEC2-4374-9B96-B89E76B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F4E-2B10-4BAE-947E-5E792B4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565-9AA3-4726-BA60-3F05351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547-1EC5-4F8A-A261-67DDD70815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D14-5DC4-48AA-A30D-89E3CDFBB0C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1640" y="76320"/>
            <a:ext cx="4343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3c145"/>
                </a:solidFill>
                <a:latin typeface="Tahoma"/>
              </a:rPr>
              <a:t>Kurikulum Futuristik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Definis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080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Kurikulum masa dep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ifat : tidak statik ttp dinam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rubahan, inovasi / reform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aktor2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Keperluan masy &amp; nega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kmbgn sains &amp; tek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rkmbgn falsafah, psikologi &amp; teori pe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Guru sebagai pendidik K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461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JM Cooper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uasai ilmu peng dlm teori pemb &amp; psi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unjukkn sikap jujur yg dpt mgglkkn pemb serta mewujudkn interaksi + dlm pelbgai hal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peroleh ilmu peng yg lgkp dlm 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gunakan kaedah &amp; teknik mgjr yg memudahkn murid mnjlnkn aktvt pembljrn m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Ciri2 K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461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Rancangan Prkmbgn Pendidikn (2001 – 20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nd. Prasekol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Sistem monitor dikuatk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Pend. S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Pend wajib umur 6 –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p bhs Cina &amp; Tamil di SK – prpadu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Tiada masalah kekurangn gu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2010 Tahap 2 - 100 % guru siswaza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Mmbaiki program kokurikulum sedia 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Kemahirn Menggunakan Komput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1749240"/>
            <a:ext cx="419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gj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ngurus pengj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embantu penguj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amb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690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end. 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8 tempoh pengajian &lt; 6 tah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5 PMR dimansuhkn. Tg. 2 PK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2007 Tg. 4 SP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5 aliran : Sastera, Sains, Teknikal, Agama, Kemahiran &amp; Vok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Sukatan pel. Sains : mekatronik, biotekno &amp; mikroelektron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Mutu BI di klgn gu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6 byk opsyen sai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Prog. Lthn Tenaga Pekerja : 2010 guru ijazah sarjana – T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4448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2276640"/>
            <a:ext cx="60958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6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00600" cy="40384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800600" y="2390760"/>
            <a:ext cx="43434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4:06:51Z</dcterms:created>
  <dc:creator>user</dc:creator>
  <dc:description/>
  <dc:language>en-US</dc:language>
  <cp:lastModifiedBy>user</cp:lastModifiedBy>
  <dcterms:modified xsi:type="dcterms:W3CDTF">2007-10-31T22:55:32Z</dcterms:modified>
  <cp:revision>7</cp:revision>
  <dc:subject/>
  <dc:title>Kurikulum Futuristik</dc:title>
</cp:coreProperties>
</file>