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B398-2AFC-4644-BD5F-C5318BE6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ABF4-7B99-4D66-A69A-C2AFE2AD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2B17-E261-43CF-B686-44AB2EC3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4CCE-0809-4383-9554-0038CA24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1DDD-05C5-4A4F-AE29-7086C10C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66D0-C5B7-4040-8A4A-1A14461D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C2E4-F7C7-4E7A-A6DB-46700A26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2AC7-558C-4507-8733-959B7A46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5E86-1137-4211-A97F-417A75C1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ECC8-39D3-44F2-9AB3-3E4E9145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85EB-97D3-44D0-A988-66BD6A0E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DDDC-4A55-470F-B47E-112FF6DE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50C3-A75A-4AFC-8D28-B16A4DF5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4F8D-B56B-4721-BAFF-C680F796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AE66-4FF2-46F7-8026-1E715F51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9D40-D4A1-4311-977A-9A48B28C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CE8A-58A2-4BB6-AD8B-2E643A36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30DD-5A80-4915-9D35-EB5FF38F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D22E-2A96-4B8B-BED6-C056A621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78E5-1B63-4307-8B98-C3D789E3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74CD-34CF-40D5-9153-98C80ED6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FDC1-5AB3-426D-ACB6-785AF373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7706-C2CA-45AD-9A4F-B785F93C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1EC4-2A41-4799-A1E9-3939E2DD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A17B-F384-4F0D-A7AC-40A0129B9C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51F3-216D-4724-9281-2C6D9B9BF14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1640" y="76320"/>
            <a:ext cx="4343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3c145"/>
                </a:solidFill>
                <a:latin typeface="Tahoma"/>
              </a:rPr>
              <a:t>Kurikulum Futuristik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Definis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0802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Kurikulum masa dep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Sifat : tidak statik ttp dinami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Perubahan, inovasi / reformas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Faktor2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Keperluan masy &amp; nega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rkmbgn sains &amp; tekn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rkmbgn falsafah, psikologi &amp; teori pe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Guru sebagai pendidik KF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461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JM Cooper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Menguasai ilmu peng dlm teori pemb &amp; psik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Menunjukkn sikap jujur yg dpt mgglkkn pemb serta mewujudkn interaksi + dlm pelbgai hal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Memperoleh ilmu peng yg lgkp dlm 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Menggunakan kaedah &amp; teknik mgjr yg memudahkn murid mnjlnkn aktvt pembljrn m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Ciri2 KF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461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Rancangan Prkmbgn Pendidikn (2001 – 201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Pend. Prasekol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Sistem monitor dikuatk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Pend. S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end wajib umur 6 – 1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Mp bhs Cina &amp; Tamil di SK – prpadu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Tiada masalah kekurangn gu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2010 Tahap 2 - 100 % guru siswazah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Mmbaiki program kokurikulum sedia 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Kemahirn Menggunakan Kompute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1749240"/>
            <a:ext cx="41943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Membantu pe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Membantu pengj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Mengurus pengj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Membantu penguj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…</a:t>
            </a: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samb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69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Pend. 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2008 tempoh pengajian &lt; 6 tahu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2005 PMR dimansuhkn. Tg. 2 PKB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2007 Tg. 4 SP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5 aliran : Sastera, Sains, Teknikal, Agama, Kemahiran &amp; Vokas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Sukatan pel. Sains : mekatronik, biotekno &amp; mikroelektroni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Mutu BI di klgn gu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T6 byk opsyen sai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Prog. Lthn Tenaga Pekerja : 2010 guru ijazah sarjana – T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444816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2276640"/>
            <a:ext cx="60958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6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6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800600" cy="40384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4800600" y="2390760"/>
            <a:ext cx="43434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04:06:51Z</dcterms:created>
  <dc:creator>user</dc:creator>
  <dc:description/>
  <dc:language>en-US</dc:language>
  <cp:lastModifiedBy>user</cp:lastModifiedBy>
  <dcterms:modified xsi:type="dcterms:W3CDTF">2007-10-31T22:55:32Z</dcterms:modified>
  <cp:revision>7</cp:revision>
  <dc:subject/>
  <dc:title>Kurikulum Futuristik</dc:title>
</cp:coreProperties>
</file>