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1C0-AF71-4B15-A5AF-B04BCC0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651-2E6F-4975-AED1-2251BF4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22A-8A62-4646-B861-D5052E47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CFD-B842-4949-90E7-2E9398A1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F26-0132-46C0-988C-38EBEC14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4F0-FCDA-48A3-9075-24876535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6E8-8263-4ABF-95F4-CE0C10D0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C45-8863-454B-B737-F4E0CA45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656-7FB6-45F9-B6B6-339C3468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4BB-4073-491D-8118-90EECF0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834-F603-46E6-9303-2049055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F81-E631-4C70-8803-22880E03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CEA2-308C-42FB-8C9A-093FC0AADE1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image" Target="../media/image7.jpeg"/><Relationship Id="rId6" Type="http://schemas.openxmlformats.org/officeDocument/2006/relationships/slide" Target="slide4.xml"/><Relationship Id="rId7" Type="http://schemas.openxmlformats.org/officeDocument/2006/relationships/image" Target="../media/image7.jpeg"/><Relationship Id="rId8" Type="http://schemas.openxmlformats.org/officeDocument/2006/relationships/slide" Target="slide5.xml"/><Relationship Id="rId9" Type="http://schemas.openxmlformats.org/officeDocument/2006/relationships/image" Target="../media/image7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36640"/>
            <a:ext cx="9144000" cy="40222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روحك فينا شعلة       ومجدك بينا ه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cs typeface="Arial"/>
              </a:rPr>
              <a:t>ا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يعلى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76320" y="1981080"/>
            <a:ext cx="9144000" cy="3657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rial"/>
              </a:rPr>
              <a:t>إحنا يارب الآت برك     استخدمنا وعظم عمل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6360" y="1736640"/>
            <a:ext cx="9144000" cy="5362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مجدك يملا الكون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ea typeface="Arial"/>
              </a:rPr>
              <a:t> و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النصر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cs typeface="Arial"/>
              </a:rPr>
              <a:t>ة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ea typeface="Arial"/>
              </a:rPr>
              <a:t> بيك هتكو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1660680"/>
            <a:ext cx="9144000" cy="402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نرفع لك تسبيحنا       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ea typeface="Arial"/>
              </a:rPr>
              <a:t> 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و</a:t>
            </a:r>
            <a:r>
              <a:rPr b="1" lang="ar-EG" sz="8800" spc="-1" strike="noStrike">
                <a:solidFill>
                  <a:srgbClr val="ffff00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rial"/>
              </a:rPr>
              <a:t>نعظمك يا مسيحن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1353960"/>
            <a:ext cx="9144000" cy="44395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و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يدوم التمجيد   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ea typeface="Arial"/>
              </a:rPr>
              <a:t>  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ea typeface="Arial"/>
              </a:rPr>
              <a:t> بأحلىَ الاناشيد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هللويا</a:t>
            </a:r>
            <a:r>
              <a:rPr b="1" lang="ar-EG" sz="8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rial"/>
              </a:rPr>
              <a:t>هللوي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أحنا يا رب الآ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مجدك يملأ الك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نرفع لك تسبيح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5292720" y="4437000"/>
            <a:ext cx="381636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و يدوم التمج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2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وحك فينا شع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7:13:19Z</dcterms:created>
  <dc:creator/>
  <dc:description/>
  <dc:language>en-US</dc:language>
  <cp:lastModifiedBy>Sp2</cp:lastModifiedBy>
  <dcterms:modified xsi:type="dcterms:W3CDTF">2008-11-17T11:42:34Z</dcterms:modified>
  <cp:revision>48</cp:revision>
  <dc:subject/>
  <dc:title>عرض تقديمي من PowerPoint</dc:title>
</cp:coreProperties>
</file>