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8DE-FB9D-440F-A4DB-BA572617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D6E-247E-4140-8D61-BC0F61B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8E4-351F-43F5-B110-FCBAF436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FBF-BF60-4392-B3B8-5C28E12E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13-4A24-4473-BCA5-10BB50B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FD1-1BA8-4D6D-9447-AC12A1B6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08A-4BC3-4708-A1C6-4FE3BDE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514-A3F4-481D-A26A-EA870D6F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1AC-05BA-48F2-9CD2-6BACA6F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7EE-8278-4EFD-84DD-F857301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587-0A0A-4924-9077-F48F409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993-2ACC-47C1-8576-A5E12E2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07B-91C6-4450-A479-5BDE696746A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image" Target="../media/image7.jpeg"/><Relationship Id="rId8" Type="http://schemas.openxmlformats.org/officeDocument/2006/relationships/slide" Target="slide5.xml"/><Relationship Id="rId9" Type="http://schemas.openxmlformats.org/officeDocument/2006/relationships/image" Target="../media/image7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36640"/>
            <a:ext cx="9144000" cy="40222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روحك فينا شعلة       ومجدك بينا ه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cs typeface="Arial"/>
              </a:rPr>
              <a:t>ا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يعلى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76320" y="1981080"/>
            <a:ext cx="9144000" cy="3657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rial"/>
              </a:rPr>
              <a:t>إحنا يارب الآت برك     استخدمنا وعظم عمل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6360" y="1736640"/>
            <a:ext cx="9144000" cy="5362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مجدك يملا الكون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و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النصر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cs typeface="Arial"/>
              </a:rPr>
              <a:t>ة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بيك هتكو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1660680"/>
            <a:ext cx="9144000" cy="402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نرفع لك تسبيحنا       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و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نعظمك يا مسيحن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1353960"/>
            <a:ext cx="9144000" cy="4439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و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يدوم التمجيد   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ea typeface="Arial"/>
              </a:rPr>
              <a:t> بأحلىَ الاناشي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هللويا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هللوي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حنا يا رب الآ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جدك يملأ الك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نرفع لك تسبيح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و يدوم التمج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ك فينا شع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3:19Z</dcterms:created>
  <dc:creator/>
  <dc:description/>
  <dc:language>en-US</dc:language>
  <cp:lastModifiedBy>Sp2</cp:lastModifiedBy>
  <dcterms:modified xsi:type="dcterms:W3CDTF">2008-11-17T11:42:34Z</dcterms:modified>
  <cp:revision>48</cp:revision>
  <dc:subject/>
  <dc:title>عرض تقديمي من PowerPoint</dc:title>
</cp:coreProperties>
</file>