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342-87FA-43B4-9F37-9677B49D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921-9154-4BB6-9759-C8BF4D61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B4E-32A7-4493-9222-BAE8B815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5A8-DC24-4C8C-B80E-A6B3569F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7EF-1538-4602-9745-D2277428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314-2A05-4B78-8429-A576B2CC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4B9-F6C1-4013-8F80-BFF0C687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B7B-9AA0-490D-9DE9-221594A0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7FA-9700-4129-8B56-F0421049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6FE-B469-4245-AFBB-7FBFEABA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E1D-F9F9-49B9-96D9-7341323F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536-0E88-4D82-B650-531CC53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39640" y="6265440"/>
            <a:ext cx="24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00A-03EF-4741-9BB0-CE668640C2A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71EF4840-FAF5-4DBA-9656-224CF1534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5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6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BBB8-86A6-4E21-A174-F6BF084DD19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B2D6EEC0-67F2-496C-9E4A-C746A4F2A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6" descr=""/>
          <p:cNvPicPr/>
          <p:nvPr/>
        </p:nvPicPr>
        <p:blipFill>
          <a:blip r:embed="rId1"/>
          <a:stretch/>
        </p:blipFill>
        <p:spPr>
          <a:xfrm>
            <a:off x="841320" y="2792520"/>
            <a:ext cx="74487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89C4-96C2-4316-AA03-01A400FC760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FB95DC7E-4A15-4A00-A41F-46C8539DA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466560" y="121176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entukan bagian real, bagian imajiner dan modulus dari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8"/>
              <p:cNvSpPr txBox="1"/>
              <p:nvPr/>
            </p:nvSpPr>
            <p:spPr>
              <a:xfrm>
                <a:off x="611280" y="1862280"/>
                <a:ext cx="1368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900000" y="2708280"/>
                <a:ext cx="1719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Rectangle 23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2"/>
              <p:cNvSpPr txBox="1"/>
              <p:nvPr/>
            </p:nvSpPr>
            <p:spPr>
              <a:xfrm>
                <a:off x="900000" y="3573360"/>
                <a:ext cx="1800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 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Rectangle 2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4"/>
              <p:cNvSpPr txBox="1"/>
              <p:nvPr/>
            </p:nvSpPr>
            <p:spPr>
              <a:xfrm>
                <a:off x="960480" y="4437000"/>
                <a:ext cx="1163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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26"/>
          <p:cNvSpPr/>
          <p:nvPr/>
        </p:nvSpPr>
        <p:spPr>
          <a:xfrm>
            <a:off x="3342600" y="1915200"/>
            <a:ext cx="51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gian real = - ½ dan bagian imajiner = 5/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7"/>
              <p:cNvSpPr txBox="1"/>
              <p:nvPr/>
            </p:nvSpPr>
            <p:spPr>
              <a:xfrm>
                <a:off x="3419640" y="2565360"/>
                <a:ext cx="1800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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Rectangle 3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9"/>
              <p:cNvSpPr txBox="1"/>
              <p:nvPr/>
            </p:nvSpPr>
            <p:spPr>
              <a:xfrm>
                <a:off x="5580000" y="2565360"/>
                <a:ext cx="1584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4" name="AutoShape 31"/>
          <p:cNvSpPr/>
          <p:nvPr/>
        </p:nvSpPr>
        <p:spPr>
          <a:xfrm>
            <a:off x="5003640" y="3573360"/>
            <a:ext cx="2232360" cy="432000"/>
          </a:xfrm>
          <a:prstGeom prst="wedgeEllipseCallout">
            <a:avLst>
              <a:gd name="adj1" fmla="val 20837"/>
              <a:gd name="adj2" fmla="val -127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"/>
          <p:cNvSpPr/>
          <p:nvPr/>
        </p:nvSpPr>
        <p:spPr>
          <a:xfrm>
            <a:off x="3421080" y="4005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33"/>
              <p:cNvSpPr txBox="1"/>
              <p:nvPr/>
            </p:nvSpPr>
            <p:spPr>
              <a:xfrm>
                <a:off x="3348000" y="4724280"/>
                <a:ext cx="2665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cxnSp>
        <p:nvCxnSpPr>
          <p:cNvPr id="248" name="AutoShape 35"/>
          <p:cNvCxnSpPr/>
          <p:nvPr/>
        </p:nvCxnSpPr>
        <p:spPr>
          <a:xfrm>
            <a:off x="2124000" y="4717800"/>
            <a:ext cx="1224720" cy="400680"/>
          </a:xfrm>
          <a:prstGeom prst="bentConnector3">
            <a:avLst>
              <a:gd name="adj1" fmla="val 49926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</p:spTree>
  </p:cSld>
  <p:transition>
    <p:strips dir="r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2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4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A753-4F95-4441-996A-4347E8EB787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6C8913B3-78C5-4EEA-8833-F5BC61808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asi Bilangan Kompleks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4"/>
              <p:cNvSpPr txBox="1"/>
              <p:nvPr/>
            </p:nvSpPr>
            <p:spPr>
              <a:xfrm>
                <a:off x="7020000" y="4100400"/>
                <a:ext cx="12970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4"/>
          <p:cNvSpPr/>
          <p:nvPr/>
        </p:nvSpPr>
        <p:spPr>
          <a:xfrm>
            <a:off x="250920" y="95796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 Bentuk Polar / Trigonometri, z = r ( cos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+ i sin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50920" y="2132640"/>
            <a:ext cx="43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rgumen dari bilangan kompleks z, merupakan sudut  yang dibentuk oleh garis modulus z dengan sumbu real positif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rg z = arc tan y/x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244440" y="175788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menyatakan modulus dari z, r = | z |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4"/>
          <p:cNvGrpSpPr/>
          <p:nvPr/>
        </p:nvGrpSpPr>
        <p:grpSpPr>
          <a:xfrm>
            <a:off x="5076720" y="1197000"/>
            <a:ext cx="3122640" cy="2016000"/>
            <a:chOff x="5076720" y="1197000"/>
            <a:chExt cx="3122640" cy="2016000"/>
          </a:xfrm>
        </p:grpSpPr>
        <p:sp>
          <p:nvSpPr>
            <p:cNvPr id="258" name="Line 7"/>
            <p:cNvSpPr/>
            <p:nvPr/>
          </p:nvSpPr>
          <p:spPr>
            <a:xfrm flipV="1">
              <a:off x="5652720" y="1197000"/>
              <a:ext cx="0" cy="20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>
              <a:off x="5076720" y="299556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9"/>
            <p:cNvSpPr/>
            <p:nvPr/>
          </p:nvSpPr>
          <p:spPr>
            <a:xfrm flipV="1">
              <a:off x="5652720" y="1628640"/>
              <a:ext cx="1224000" cy="136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0"/>
            <p:cNvSpPr/>
            <p:nvPr/>
          </p:nvSpPr>
          <p:spPr>
            <a:xfrm>
              <a:off x="6999120" y="133488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 = x + i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2"/>
            <p:cNvSpPr/>
            <p:nvPr/>
          </p:nvSpPr>
          <p:spPr>
            <a:xfrm>
              <a:off x="6876720" y="1628640"/>
              <a:ext cx="0" cy="1366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 flipH="1">
              <a:off x="5652720" y="162864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15"/>
          <p:cNvSpPr/>
          <p:nvPr/>
        </p:nvSpPr>
        <p:spPr>
          <a:xfrm>
            <a:off x="5841720" y="26370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6033600" y="1916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5868360" y="2924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 rot="5400000">
            <a:off x="6676920" y="2131560"/>
            <a:ext cx="8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s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318960" y="3933000"/>
            <a:ext cx="40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: Tentukan argumen dar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539640" y="4365720"/>
                <a:ext cx="1224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Rectangle 2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2"/>
              <p:cNvSpPr txBox="1"/>
              <p:nvPr/>
            </p:nvSpPr>
            <p:spPr>
              <a:xfrm>
                <a:off x="1835280" y="4437000"/>
                <a:ext cx="16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Rectangle 2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4"/>
              <p:cNvSpPr txBox="1"/>
              <p:nvPr/>
            </p:nvSpPr>
            <p:spPr>
              <a:xfrm>
                <a:off x="3492360" y="4437000"/>
                <a:ext cx="100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6"/>
              <p:cNvSpPr txBox="1"/>
              <p:nvPr/>
            </p:nvSpPr>
            <p:spPr>
              <a:xfrm>
                <a:off x="2124000" y="5262480"/>
                <a:ext cx="18003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28"/>
          <p:cNvSpPr/>
          <p:nvPr/>
        </p:nvSpPr>
        <p:spPr>
          <a:xfrm>
            <a:off x="467280" y="504828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-1/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468000" y="551664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5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0"/>
          <p:cNvSpPr/>
          <p:nvPr/>
        </p:nvSpPr>
        <p:spPr>
          <a:xfrm>
            <a:off x="1617840" y="527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1"/>
          <p:cNvSpPr/>
          <p:nvPr/>
        </p:nvSpPr>
        <p:spPr>
          <a:xfrm>
            <a:off x="5272200" y="3541680"/>
            <a:ext cx="2454120" cy="398880"/>
          </a:xfrm>
          <a:prstGeom prst="rect">
            <a:avLst/>
          </a:prstGeom>
          <a:solidFill>
            <a:srgbClr val="e9eab4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r c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i r s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AutoShape 32"/>
          <p:cNvCxnSpPr>
            <a:stCxn id="261" idx="3"/>
            <a:endCxn id="279" idx="3"/>
          </p:cNvCxnSpPr>
          <p:nvPr/>
        </p:nvCxnSpPr>
        <p:spPr>
          <a:xfrm flipH="1">
            <a:off x="7725960" y="1533240"/>
            <a:ext cx="472320" cy="2212200"/>
          </a:xfrm>
          <a:prstGeom prst="bentConnector3">
            <a:avLst>
              <a:gd name="adj1" fmla="val -48436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Rectangle 33"/>
          <p:cNvSpPr/>
          <p:nvPr/>
        </p:nvSpPr>
        <p:spPr>
          <a:xfrm>
            <a:off x="5003280" y="4220280"/>
            <a:ext cx="21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Arial"/>
              </a:rPr>
              <a:t>4. Bentuk Euler ,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5301720" y="472428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mus Euler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7"/>
              <p:cNvSpPr txBox="1"/>
              <p:nvPr/>
            </p:nvSpPr>
            <p:spPr>
              <a:xfrm>
                <a:off x="5435640" y="5262480"/>
                <a:ext cx="24494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84" name="AutoShape 39"/>
          <p:cNvCxnSpPr>
            <a:stCxn id="279" idx="1"/>
          </p:cNvCxnSpPr>
          <p:nvPr/>
        </p:nvCxnSpPr>
        <p:spPr>
          <a:xfrm flipH="1" flipV="1" rot="10800000">
            <a:off x="5271840" y="3744720"/>
            <a:ext cx="164160" cy="1770480"/>
          </a:xfrm>
          <a:prstGeom prst="bentConnector3">
            <a:avLst>
              <a:gd name="adj1" fmla="val -279560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5" name="AutoShape 40"/>
          <p:cNvCxnSpPr/>
          <p:nvPr/>
        </p:nvCxnSpPr>
        <p:spPr>
          <a:xfrm flipV="1">
            <a:off x="7885080" y="4376160"/>
            <a:ext cx="432720" cy="1138680"/>
          </a:xfrm>
          <a:prstGeom prst="bentConnector3">
            <a:avLst>
              <a:gd name="adj1" fmla="val 152539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</p:spTree>
  </p:cSld>
  <p:transition>
    <p:strips dir="r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8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E89D-4ECD-483D-A943-BC891DB01FE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4D4A9F7F-D1B7-4370-8685-C47293561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erhanakan bentuk beriku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-3)(-4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 – i)(-3 + 2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al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 + 2i dan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3 +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1571760" y="2597040"/>
                <a:ext cx="1776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1495440" y="5300640"/>
                <a:ext cx="10429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F30B-5360-4530-886E-965B6494ADC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E051BF5F-2440-40B7-8FEF-35A9C95B1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ung |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dan |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bil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-2,3) dan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 1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 – i dan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3 + 2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ukan bagian real real dan bagian imajiner d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1116000" y="3645000"/>
                <a:ext cx="15112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2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6"/>
              <p:cNvSpPr txBox="1"/>
              <p:nvPr/>
            </p:nvSpPr>
            <p:spPr>
              <a:xfrm>
                <a:off x="1146240" y="4653000"/>
                <a:ext cx="1625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Rectangle 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3463920" y="3708360"/>
                <a:ext cx="2763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8B94-177A-48E1-AC8E-D5D0BCD9466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4FB951A4-EDAC-4029-8933-DF078D457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ilah nilai r d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r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6 – 8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971640" y="2205000"/>
                <a:ext cx="194472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6"/>
              <p:cNvSpPr txBox="1"/>
              <p:nvPr/>
            </p:nvSpPr>
            <p:spPr>
              <a:xfrm>
                <a:off x="971640" y="3141720"/>
                <a:ext cx="21603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988920" y="4278240"/>
                <a:ext cx="17827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10"/>
              <p:cNvSpPr txBox="1"/>
              <p:nvPr/>
            </p:nvSpPr>
            <p:spPr>
              <a:xfrm>
                <a:off x="4299120" y="1450800"/>
                <a:ext cx="20732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Rectangle 13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2"/>
              <p:cNvSpPr txBox="1"/>
              <p:nvPr/>
            </p:nvSpPr>
            <p:spPr>
              <a:xfrm>
                <a:off x="4325760" y="2768760"/>
                <a:ext cx="220680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E185-B7B3-4648-B3D0-53BF18557E2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BE51578B-FB85-465C-89B8-6031EEC6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angkat dan Akar Bilangan Kompleks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2"/>
              <p:cNvSpPr txBox="1"/>
              <p:nvPr/>
            </p:nvSpPr>
            <p:spPr>
              <a:xfrm>
                <a:off x="5364000" y="1341360"/>
                <a:ext cx="3600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nθ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n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4"/>
              <p:cNvSpPr txBox="1"/>
              <p:nvPr/>
            </p:nvSpPr>
            <p:spPr>
              <a:xfrm>
                <a:off x="1692360" y="836640"/>
                <a:ext cx="12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Rectangle 1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16"/>
              <p:cNvSpPr txBox="1"/>
              <p:nvPr/>
            </p:nvSpPr>
            <p:spPr>
              <a:xfrm>
                <a:off x="2843280" y="932040"/>
                <a:ext cx="2233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Rectangle 1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2052720" y="1628640"/>
                <a:ext cx="2374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θ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n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335" name="AutoShape 20"/>
          <p:cNvCxnSpPr/>
          <p:nvPr/>
        </p:nvCxnSpPr>
        <p:spPr>
          <a:xfrm flipH="1">
            <a:off x="4426920" y="1173240"/>
            <a:ext cx="649800" cy="700200"/>
          </a:xfrm>
          <a:prstGeom prst="bentConnector3">
            <a:avLst>
              <a:gd name="adj1" fmla="val -34922"/>
            </a:avLst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6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684360" y="1574640"/>
                <a:ext cx="12236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θ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8" name="Rectangle 2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23"/>
              <p:cNvSpPr txBox="1"/>
              <p:nvPr/>
            </p:nvSpPr>
            <p:spPr>
              <a:xfrm>
                <a:off x="250920" y="2492280"/>
                <a:ext cx="865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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z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0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7"/>
              <p:cNvSpPr txBox="1"/>
              <p:nvPr/>
            </p:nvSpPr>
            <p:spPr>
              <a:xfrm>
                <a:off x="1258920" y="2276640"/>
                <a:ext cx="2160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r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3" name="Rectangle 32"/>
          <p:cNvSpPr/>
          <p:nvPr/>
        </p:nvSpPr>
        <p:spPr>
          <a:xfrm>
            <a:off x="591120" y="3927960"/>
            <a:ext cx="66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uk akar pangkat dua dari z = x + iy digunakan rumu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31"/>
              <p:cNvSpPr txBox="1"/>
              <p:nvPr/>
            </p:nvSpPr>
            <p:spPr>
              <a:xfrm>
                <a:off x="3492360" y="2276640"/>
                <a:ext cx="1224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45" name="Object 33"/>
          <p:cNvGraphicFramePr/>
          <p:nvPr/>
        </p:nvGraphicFramePr>
        <p:xfrm>
          <a:off x="1285920" y="3000240"/>
          <a:ext cx="52894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000240"/>
                    <a:ext cx="52894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3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6"/>
              <p:cNvSpPr txBox="1"/>
              <p:nvPr/>
            </p:nvSpPr>
            <p:spPr>
              <a:xfrm>
                <a:off x="1116000" y="4383000"/>
                <a:ext cx="4968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ra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Rectangle 3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38"/>
              <p:cNvSpPr txBox="1"/>
              <p:nvPr/>
            </p:nvSpPr>
            <p:spPr>
              <a:xfrm>
                <a:off x="2436840" y="5234040"/>
                <a:ext cx="2397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g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y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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AutoShape 40"/>
          <p:cNvSpPr/>
          <p:nvPr/>
        </p:nvSpPr>
        <p:spPr>
          <a:xfrm>
            <a:off x="5435640" y="836640"/>
            <a:ext cx="3168720" cy="504720"/>
          </a:xfrm>
          <a:prstGeom prst="wedgeRoundRectCallout">
            <a:avLst>
              <a:gd name="adj1" fmla="val -85921"/>
              <a:gd name="adj2" fmla="val -8490"/>
              <a:gd name="adj3" fmla="val 16667"/>
            </a:avLst>
          </a:prstGeom>
          <a:solidFill>
            <a:srgbClr val="0000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gan rumus E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1"/>
          <p:cNvSpPr/>
          <p:nvPr/>
        </p:nvSpPr>
        <p:spPr>
          <a:xfrm>
            <a:off x="7596360" y="2811600"/>
            <a:ext cx="1363320" cy="792000"/>
          </a:xfrm>
          <a:solidFill>
            <a:srgbClr val="bbe0e3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mus De Moi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3"/>
              <p:cNvSpPr txBox="1"/>
              <p:nvPr/>
            </p:nvSpPr>
            <p:spPr>
              <a:xfrm>
                <a:off x="250920" y="907920"/>
                <a:ext cx="1368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97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B994-2E17-4F64-803E-4A9675D81CD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476E3624-E5F0-4CE9-90C4-AB3E9A6E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angkat dan Akar Bilangan Kompleks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46600" y="98028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: Carilah solusi persama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5"/>
              <p:cNvSpPr txBox="1"/>
              <p:nvPr/>
            </p:nvSpPr>
            <p:spPr>
              <a:xfrm>
                <a:off x="395280" y="1413000"/>
                <a:ext cx="280836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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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0"/>
          <p:cNvGrpSpPr/>
          <p:nvPr/>
        </p:nvGrpSpPr>
        <p:grpSpPr>
          <a:xfrm>
            <a:off x="4498920" y="1341360"/>
            <a:ext cx="4321080" cy="1439640"/>
            <a:chOff x="4498920" y="1341360"/>
            <a:chExt cx="4321080" cy="1439640"/>
          </a:xfrm>
        </p:grpSpPr>
        <p:sp>
          <p:nvSpPr>
            <p:cNvPr id="364" name="AutoShape 7"/>
            <p:cNvSpPr/>
            <p:nvPr/>
          </p:nvSpPr>
          <p:spPr>
            <a:xfrm>
              <a:off x="4498920" y="1341360"/>
              <a:ext cx="4321080" cy="143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unakan rumus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8"/>
                <p:cNvSpPr txBox="1"/>
                <p:nvPr/>
              </p:nvSpPr>
              <p:spPr>
                <a:xfrm>
                  <a:off x="4643280" y="1773000"/>
                  <a:ext cx="40338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z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±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|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rad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ign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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|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Rectangle 1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395280" y="1989000"/>
                <a:ext cx="31687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±</m:t>
                        </m:r>
                        <m:r>
                          <m:t xml:space="preserve">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Rectangle 1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442800" y="2637000"/>
                <a:ext cx="26892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Rectangle 1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15"/>
              <p:cNvSpPr txBox="1"/>
              <p:nvPr/>
            </p:nvSpPr>
            <p:spPr>
              <a:xfrm>
                <a:off x="395280" y="3213000"/>
                <a:ext cx="3529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</m:rad>
                    <m:r>
                      <m:t xml:space="preserve"></m:t>
                    </m:r>
                    <m:r>
                      <m:t xml:space="preserve">−</m:t>
                    </m:r>
                    <m:r>
                      <m:t xml:space="preserve"></m:t>
                    </m:r>
                    <m:r>
                      <m:t xml:space="preserve">i</m:t>
                    </m:r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2" name="Rectangle 1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8"/>
              <p:cNvSpPr txBox="1"/>
              <p:nvPr/>
            </p:nvSpPr>
            <p:spPr>
              <a:xfrm>
                <a:off x="4067280" y="3357720"/>
                <a:ext cx="1271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4" name="Rectangle 20"/>
          <p:cNvSpPr/>
          <p:nvPr/>
        </p:nvSpPr>
        <p:spPr>
          <a:xfrm>
            <a:off x="1476360" y="4448520"/>
            <a:ext cx="5904000" cy="7038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½ [ -3 – i + 3 - i ] atau z = ½ [ -3 – i – 3 + i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-i atau  z =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21"/>
          <p:cNvCxnSpPr>
            <a:endCxn id="374" idx="3"/>
          </p:cNvCxnSpPr>
          <p:nvPr/>
        </p:nvCxnSpPr>
        <p:spPr>
          <a:xfrm>
            <a:off x="5338440" y="3554280"/>
            <a:ext cx="2042280" cy="1246680"/>
          </a:xfrm>
          <a:prstGeom prst="bentConnector3">
            <a:avLst>
              <a:gd name="adj1" fmla="val 111107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76" name="AutoShape 22"/>
          <p:cNvCxnSpPr>
            <a:endCxn id="374" idx="1"/>
          </p:cNvCxnSpPr>
          <p:nvPr/>
        </p:nvCxnSpPr>
        <p:spPr>
          <a:xfrm flipH="1" flipV="1" rot="10800000">
            <a:off x="441360" y="2939760"/>
            <a:ext cx="1033920" cy="1861200"/>
          </a:xfrm>
          <a:prstGeom prst="bentConnector3">
            <a:avLst>
              <a:gd name="adj1" fmla="val -22117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797D-F4F7-42E8-B954-82A2E5AD118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F952E272-E6A9-4618-BDA5-9791ACFAF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ung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1 + 3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2 – 5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+ 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3 + 4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5 – 1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ilah nilai z yang memenuhi persamaa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z – i – 1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z ) + i ( z + 2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 3 – 2i)z +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 2i – 1)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 2 – 3i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7B09-B026-41F2-A594-2041E4ADBF4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04D60B11-AFE2-4F96-95F6-17A1228EA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aerah pada Bidang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24000" y="795600"/>
            <a:ext cx="388764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titik tetap, maka tempat kedudukan titik-titik dari  z = ( x,y )  yang berjarak R terhadap titik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2"/>
          <p:cNvGrpSpPr/>
          <p:nvPr/>
        </p:nvGrpSpPr>
        <p:grpSpPr>
          <a:xfrm>
            <a:off x="324000" y="2492280"/>
            <a:ext cx="2735280" cy="2160720"/>
            <a:chOff x="324000" y="2492280"/>
            <a:chExt cx="2735280" cy="2160720"/>
          </a:xfrm>
        </p:grpSpPr>
        <p:sp>
          <p:nvSpPr>
            <p:cNvPr id="388" name="Line 5"/>
            <p:cNvSpPr/>
            <p:nvPr/>
          </p:nvSpPr>
          <p:spPr>
            <a:xfrm>
              <a:off x="755640" y="2492280"/>
              <a:ext cx="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324000" y="4365720"/>
              <a:ext cx="27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8"/>
            <p:cNvSpPr/>
            <p:nvPr/>
          </p:nvSpPr>
          <p:spPr>
            <a:xfrm>
              <a:off x="1360440" y="3319560"/>
              <a:ext cx="403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V="1">
              <a:off x="1476360" y="3068280"/>
              <a:ext cx="71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0"/>
            <p:cNvSpPr/>
            <p:nvPr/>
          </p:nvSpPr>
          <p:spPr>
            <a:xfrm>
              <a:off x="2248920" y="2847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1"/>
            <p:cNvSpPr/>
            <p:nvPr/>
          </p:nvSpPr>
          <p:spPr>
            <a:xfrm>
              <a:off x="1620720" y="2887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13"/>
          <p:cNvSpPr/>
          <p:nvPr/>
        </p:nvSpPr>
        <p:spPr>
          <a:xfrm>
            <a:off x="611280" y="2565360"/>
            <a:ext cx="1655640" cy="16556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"/>
          <p:cNvSpPr/>
          <p:nvPr/>
        </p:nvSpPr>
        <p:spPr>
          <a:xfrm>
            <a:off x="1476360" y="3429000"/>
            <a:ext cx="719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5"/>
          <p:cNvSpPr/>
          <p:nvPr/>
        </p:nvSpPr>
        <p:spPr>
          <a:xfrm>
            <a:off x="2195640" y="3068640"/>
            <a:ext cx="0" cy="36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7"/>
          <p:cNvSpPr/>
          <p:nvPr/>
        </p:nvSpPr>
        <p:spPr>
          <a:xfrm>
            <a:off x="1403280" y="4365720"/>
            <a:ext cx="1224000" cy="433440"/>
          </a:xfrm>
          <a:prstGeom prst="wedgeRoundRectCallout">
            <a:avLst>
              <a:gd name="adj1" fmla="val -17703"/>
              <a:gd name="adj2" fmla="val -261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–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2700360" y="3213000"/>
            <a:ext cx="1008000" cy="503280"/>
          </a:xfrm>
          <a:prstGeom prst="wedgeRoundRectCallout">
            <a:avLst>
              <a:gd name="adj1" fmla="val -98347"/>
              <a:gd name="adj2" fmla="val -41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9"/>
              <p:cNvSpPr txBox="1"/>
              <p:nvPr/>
            </p:nvSpPr>
            <p:spPr>
              <a:xfrm>
                <a:off x="250920" y="5095800"/>
                <a:ext cx="25318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1" name="Rectangle 2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1"/>
              <p:cNvSpPr txBox="1"/>
              <p:nvPr/>
            </p:nvSpPr>
            <p:spPr>
              <a:xfrm>
                <a:off x="2843280" y="5084640"/>
                <a:ext cx="1008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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3" name="Rectangle 23"/>
          <p:cNvSpPr/>
          <p:nvPr/>
        </p:nvSpPr>
        <p:spPr>
          <a:xfrm>
            <a:off x="4427640" y="1011240"/>
            <a:ext cx="44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| z - z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| = R : tempat kedudukan titik-titik yang berupa lingkaran dengan pusat z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= ( x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, y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) dan jari-jari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4433760" y="2198520"/>
            <a:ext cx="44593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z -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 : daerah di dalam lingkaran yang berpusat d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n jari-jari R [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kram 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gkaran buka atau lingkungan-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4429080" y="3919680"/>
            <a:ext cx="446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&lt; | z -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 dikatak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nul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c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26"/>
          <p:cNvSpPr/>
          <p:nvPr/>
        </p:nvSpPr>
        <p:spPr>
          <a:xfrm>
            <a:off x="611280" y="2565360"/>
            <a:ext cx="1657080" cy="165564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7"/>
          <p:cNvSpPr/>
          <p:nvPr/>
        </p:nvSpPr>
        <p:spPr>
          <a:xfrm>
            <a:off x="611280" y="2565360"/>
            <a:ext cx="1657080" cy="1655640"/>
          </a:xfrm>
          <a:prstGeom prst="ellipse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8"/>
          <p:cNvSpPr/>
          <p:nvPr/>
        </p:nvSpPr>
        <p:spPr>
          <a:xfrm>
            <a:off x="1116000" y="3068640"/>
            <a:ext cx="719280" cy="720720"/>
          </a:xfrm>
          <a:prstGeom prst="ellipse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1187280" y="3213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260000" y="3032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AutoShape 32"/>
          <p:cNvCxnSpPr>
            <a:endCxn id="405" idx="1"/>
          </p:cNvCxnSpPr>
          <p:nvPr/>
        </p:nvCxnSpPr>
        <p:spPr>
          <a:xfrm rot="5400000">
            <a:off x="3530520" y="3389760"/>
            <a:ext cx="1801080" cy="5400"/>
          </a:xfrm>
          <a:prstGeom prst="bentConnector4">
            <a:avLst>
              <a:gd name="adj1" fmla="val 779"/>
              <a:gd name="adj2" fmla="val 490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12" name="Text Box 33"/>
          <p:cNvSpPr/>
          <p:nvPr/>
        </p:nvSpPr>
        <p:spPr>
          <a:xfrm>
            <a:off x="4482000" y="5038560"/>
            <a:ext cx="30276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inamakan Daerah B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AutoShape 34"/>
          <p:cNvCxnSpPr/>
          <p:nvPr/>
        </p:nvCxnSpPr>
        <p:spPr>
          <a:xfrm flipH="1" flipV="1" rot="10800000">
            <a:off x="4428000" y="4387320"/>
            <a:ext cx="51480" cy="842400"/>
          </a:xfrm>
          <a:prstGeom prst="bentConnector3">
            <a:avLst>
              <a:gd name="adj1" fmla="val -4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4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6500"/>
                            </p:stCondLst>
                            <p:childTnLst>
                              <p:par>
                                <p:cTn id="8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8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04F4-123E-456F-953E-DB0E6EB7188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12EFC850-B5A3-4398-8C20-E7820FDE6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lah himpunan titik beriku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z + 2| &l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z – 2i|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z + 1 – 2i | &g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z – 2 + i| &lt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 ( z + 2 + i) &g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 ( z – 2 + i) &lt;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468360" y="5184720"/>
                <a:ext cx="33116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6B53-E999-44C2-91C4-6009F805FF9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B17C60CF-F83D-47A3-BE0B-99EACB1AD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ub Pokok Bahas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er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r dan Pang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erah Bu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asaran Pembelajar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ahasiswa mampu mencari bagian riil dan bagian imajiner bilangan kompl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ahasiswa mampu melakukan operasi-operasi dalam bilangan kompl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yarat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1BD7-C928-466A-9533-55A45B09700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289078EF-325A-4107-B57B-4B5C1DD22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49A0-7499-492B-81C4-E1417F758C3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0002B253-866A-4803-B19A-2E0D1CD2C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755640" y="3573360"/>
            <a:ext cx="5184720" cy="792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ilangan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611280" y="1268280"/>
            <a:ext cx="1728720" cy="648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 = 6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2052720" y="1268280"/>
            <a:ext cx="2087640" cy="6480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x = 8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3780000" y="1268280"/>
            <a:ext cx="2304720" cy="648000"/>
          </a:xfrm>
          <a:custGeom>
            <a:avLst/>
            <a:gdLst>
              <a:gd name="textAreaLeft" fmla="*/ 0 w 2304720"/>
              <a:gd name="textAreaRight" fmla="*/ 2305080 w 2304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x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796000" y="1268280"/>
            <a:ext cx="2521080" cy="64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1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755640" y="2205000"/>
            <a:ext cx="1440000" cy="1295280"/>
          </a:xfrm>
          <a:prstGeom prst="upArrowCallout">
            <a:avLst>
              <a:gd name="adj1" fmla="val 27796"/>
              <a:gd name="adj2" fmla="val 2779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n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2340000" y="2205000"/>
            <a:ext cx="1440000" cy="1295280"/>
          </a:xfrm>
          <a:prstGeom prst="upArrowCallout">
            <a:avLst>
              <a:gd name="adj1" fmla="val 27796"/>
              <a:gd name="adj2" fmla="val 27793"/>
              <a:gd name="adj3" fmla="val 16667"/>
              <a:gd name="adj4" fmla="val 6666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n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4211640" y="2205000"/>
            <a:ext cx="1440000" cy="1295280"/>
          </a:xfrm>
          <a:prstGeom prst="upArrowCallout">
            <a:avLst>
              <a:gd name="adj1" fmla="val 27796"/>
              <a:gd name="adj2" fmla="val 27793"/>
              <a:gd name="adj3" fmla="val 16667"/>
              <a:gd name="adj4" fmla="val 6666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an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a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6300720" y="2205000"/>
            <a:ext cx="1440000" cy="1295280"/>
          </a:xfrm>
          <a:prstGeom prst="upArrowCallout">
            <a:avLst>
              <a:gd name="adj1" fmla="val 27796"/>
              <a:gd name="adj2" fmla="val 27793"/>
              <a:gd name="adj3" fmla="val 16667"/>
              <a:gd name="adj4" fmla="val 6666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an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l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900000" y="371628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2411280" y="371628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4356000" y="371628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6443640" y="371628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900000" y="443700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or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2340000" y="4437000"/>
            <a:ext cx="1512720" cy="50472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6443640" y="443700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 =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7"/>
          <p:cNvSpPr/>
          <p:nvPr/>
        </p:nvSpPr>
        <p:spPr>
          <a:xfrm>
            <a:off x="4716360" y="443700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or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7B1C-01FD-451E-902B-EC2F01D6B02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7AA4891F-3E31-421E-A9D3-150B1E80C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asi Bilangan Kompleks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86" name="Group 34"/>
          <p:cNvGrpSpPr/>
          <p:nvPr/>
        </p:nvGrpSpPr>
        <p:grpSpPr>
          <a:xfrm>
            <a:off x="671400" y="1628640"/>
            <a:ext cx="3311280" cy="2016360"/>
            <a:chOff x="671400" y="1628640"/>
            <a:chExt cx="3311280" cy="2016360"/>
          </a:xfrm>
        </p:grpSpPr>
        <p:sp>
          <p:nvSpPr>
            <p:cNvPr id="87" name="Line 14"/>
            <p:cNvSpPr/>
            <p:nvPr/>
          </p:nvSpPr>
          <p:spPr>
            <a:xfrm flipV="1">
              <a:off x="1466640" y="1914120"/>
              <a:ext cx="0" cy="15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871200" y="3240000"/>
              <a:ext cx="20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2"/>
            <p:cNvSpPr/>
            <p:nvPr/>
          </p:nvSpPr>
          <p:spPr>
            <a:xfrm>
              <a:off x="2506320" y="3333600"/>
              <a:ext cx="14763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mbu Re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1"/>
            <p:cNvSpPr/>
            <p:nvPr/>
          </p:nvSpPr>
          <p:spPr>
            <a:xfrm>
              <a:off x="1168200" y="3240000"/>
              <a:ext cx="4953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 flipV="1">
              <a:off x="1466640" y="2387520"/>
              <a:ext cx="89064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357280" y="2198520"/>
              <a:ext cx="11030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z = (x,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8"/>
            <p:cNvSpPr/>
            <p:nvPr/>
          </p:nvSpPr>
          <p:spPr>
            <a:xfrm>
              <a:off x="820440" y="1630440"/>
              <a:ext cx="18828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mbu Imaji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7"/>
            <p:cNvSpPr/>
            <p:nvPr/>
          </p:nvSpPr>
          <p:spPr>
            <a:xfrm>
              <a:off x="2398320" y="2452680"/>
              <a:ext cx="0" cy="75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 flipH="1">
              <a:off x="1517400" y="2387520"/>
              <a:ext cx="792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>
              <a:off x="2290680" y="3193920"/>
              <a:ext cx="396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4"/>
            <p:cNvSpPr/>
            <p:nvPr/>
          </p:nvSpPr>
          <p:spPr>
            <a:xfrm>
              <a:off x="1179360" y="2198520"/>
              <a:ext cx="396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671400" y="1628640"/>
              <a:ext cx="2879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31"/>
          <p:cNvSpPr/>
          <p:nvPr/>
        </p:nvSpPr>
        <p:spPr>
          <a:xfrm>
            <a:off x="830160" y="29271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5"/>
          <p:cNvSpPr/>
          <p:nvPr/>
        </p:nvSpPr>
        <p:spPr>
          <a:xfrm>
            <a:off x="466560" y="10515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 Bentuk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asanga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Bilangan,    z = ( x,y 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6"/>
          <p:cNvSpPr/>
          <p:nvPr/>
        </p:nvSpPr>
        <p:spPr>
          <a:xfrm>
            <a:off x="4284720" y="1712160"/>
            <a:ext cx="446400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Misal  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(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 dan 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(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, maka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+  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(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 + (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=  ( 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, 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+ 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(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-  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,  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+ 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 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(a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 a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1"/>
          <p:cNvSpPr/>
          <p:nvPr/>
        </p:nvSpPr>
        <p:spPr>
          <a:xfrm>
            <a:off x="826920" y="436572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z =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x  disebut bagian real dari z,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otasi : x = Re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y disebut bagian imajiner dari z,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otasi : y = Im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9561-5840-4F50-A45F-B3566F92C0CE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B5CCDCA6-4E87-4923-B8B6-25197CA29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0"/>
              <p:cNvSpPr txBox="1"/>
              <p:nvPr/>
            </p:nvSpPr>
            <p:spPr>
              <a:xfrm>
                <a:off x="900000" y="1197000"/>
                <a:ext cx="525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3"/>
              <p:cNvSpPr txBox="1"/>
              <p:nvPr/>
            </p:nvSpPr>
            <p:spPr>
              <a:xfrm>
                <a:off x="3924360" y="1773360"/>
                <a:ext cx="34560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,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4"/>
              <p:cNvSpPr txBox="1"/>
              <p:nvPr/>
            </p:nvSpPr>
            <p:spPr>
              <a:xfrm>
                <a:off x="900000" y="1773360"/>
                <a:ext cx="2808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5"/>
              <p:cNvSpPr txBox="1"/>
              <p:nvPr/>
            </p:nvSpPr>
            <p:spPr>
              <a:xfrm>
                <a:off x="3995640" y="2205000"/>
                <a:ext cx="1800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7"/>
              <p:cNvSpPr txBox="1"/>
              <p:nvPr/>
            </p:nvSpPr>
            <p:spPr>
              <a:xfrm>
                <a:off x="971640" y="2924280"/>
                <a:ext cx="28810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Rectangle 2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9"/>
              <p:cNvSpPr txBox="1"/>
              <p:nvPr/>
            </p:nvSpPr>
            <p:spPr>
              <a:xfrm>
                <a:off x="4067280" y="2924280"/>
                <a:ext cx="2017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Rectangle 3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1"/>
              <p:cNvSpPr txBox="1"/>
              <p:nvPr/>
            </p:nvSpPr>
            <p:spPr>
              <a:xfrm>
                <a:off x="6156360" y="2852640"/>
                <a:ext cx="1871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Rectangle 3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33"/>
              <p:cNvSpPr txBox="1"/>
              <p:nvPr/>
            </p:nvSpPr>
            <p:spPr>
              <a:xfrm>
                <a:off x="971640" y="3789360"/>
                <a:ext cx="1800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Rectangle 3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5"/>
              <p:cNvSpPr txBox="1"/>
              <p:nvPr/>
            </p:nvSpPr>
            <p:spPr>
              <a:xfrm>
                <a:off x="2916360" y="3832200"/>
                <a:ext cx="2592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,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7"/>
              <p:cNvSpPr txBox="1"/>
              <p:nvPr/>
            </p:nvSpPr>
            <p:spPr>
              <a:xfrm>
                <a:off x="5580000" y="3789360"/>
                <a:ext cx="201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Rectangle 3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39"/>
              <p:cNvSpPr txBox="1"/>
              <p:nvPr/>
            </p:nvSpPr>
            <p:spPr>
              <a:xfrm>
                <a:off x="2987640" y="4292640"/>
                <a:ext cx="16574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C6C4-D087-4D04-9417-C35DE53B70A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E942E13E-225B-4B30-A870-229244003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asi Bilangan Kompleks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34680" y="1243800"/>
            <a:ext cx="25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 Bentuk z = x + iy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30360" y="169596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, y ) = ( x,0 ) + ( 0,y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485160" y="1695960"/>
            <a:ext cx="27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 x,0 ) + ( 0,1 ) ( y,0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299640" y="16959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x + i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687240" y="2242080"/>
            <a:ext cx="25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0" lang="sv-SE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sv-SE" sz="2000" spc="-1" strike="noStrike">
                <a:solidFill>
                  <a:srgbClr val="006600"/>
                </a:solidFill>
                <a:latin typeface="Arial"/>
              </a:rPr>
              <a:t> = i.i = ( 0,1 ) ( 0,1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3201120" y="2272320"/>
            <a:ext cx="17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6600"/>
                </a:solidFill>
                <a:latin typeface="Arial"/>
              </a:rPr>
              <a:t>= ( -1,0 ) = -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933080" y="22654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5386320" y="2230560"/>
                <a:ext cx="10605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48" name="Group 32"/>
          <p:cNvGrpSpPr/>
          <p:nvPr/>
        </p:nvGrpSpPr>
        <p:grpSpPr>
          <a:xfrm>
            <a:off x="826920" y="2921040"/>
            <a:ext cx="3763080" cy="1944720"/>
            <a:chOff x="826920" y="2921040"/>
            <a:chExt cx="3763080" cy="1944720"/>
          </a:xfrm>
        </p:grpSpPr>
        <p:sp>
          <p:nvSpPr>
            <p:cNvPr id="149" name="Line 28"/>
            <p:cNvSpPr/>
            <p:nvPr/>
          </p:nvSpPr>
          <p:spPr>
            <a:xfrm flipV="1">
              <a:off x="1260360" y="2921040"/>
              <a:ext cx="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9"/>
            <p:cNvSpPr/>
            <p:nvPr/>
          </p:nvSpPr>
          <p:spPr>
            <a:xfrm>
              <a:off x="826920" y="457668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0"/>
            <p:cNvSpPr/>
            <p:nvPr/>
          </p:nvSpPr>
          <p:spPr>
            <a:xfrm flipV="1">
              <a:off x="1260360" y="3496680"/>
              <a:ext cx="1295640" cy="1079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1"/>
            <p:cNvSpPr/>
            <p:nvPr/>
          </p:nvSpPr>
          <p:spPr>
            <a:xfrm>
              <a:off x="2603160" y="3203640"/>
              <a:ext cx="19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 =(x,y) =  x + i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33"/>
          <p:cNvSpPr/>
          <p:nvPr/>
        </p:nvSpPr>
        <p:spPr>
          <a:xfrm>
            <a:off x="2556000" y="349740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1888560" y="44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2609280" y="3780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8280-DB0D-4DDF-80D8-35D6A433536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26FE69D3-551A-4D06-B8BF-36ED1C309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odulu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708360" y="1041840"/>
            <a:ext cx="468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a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lai absol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langan kompleks, z = x + i y didefinisikan sebagai bilangan real tidak negatif yang merupakan panjang vektor posisi dari z (jarak antara z dengan pusat sumb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5396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3851280" y="2744640"/>
                <a:ext cx="18716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63" name="Group 14"/>
          <p:cNvGrpSpPr/>
          <p:nvPr/>
        </p:nvGrpSpPr>
        <p:grpSpPr>
          <a:xfrm>
            <a:off x="468360" y="1052640"/>
            <a:ext cx="2878920" cy="1944720"/>
            <a:chOff x="468360" y="1052640"/>
            <a:chExt cx="2878920" cy="1944720"/>
          </a:xfrm>
        </p:grpSpPr>
        <p:sp>
          <p:nvSpPr>
            <p:cNvPr id="164" name="Line 15"/>
            <p:cNvSpPr/>
            <p:nvPr/>
          </p:nvSpPr>
          <p:spPr>
            <a:xfrm flipV="1">
              <a:off x="901440" y="1052640"/>
              <a:ext cx="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468360" y="2708280"/>
              <a:ext cx="28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 flipV="1">
              <a:off x="901440" y="1628280"/>
              <a:ext cx="1295280" cy="1079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2249280" y="1360440"/>
              <a:ext cx="10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 = x + i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9"/>
          <p:cNvSpPr/>
          <p:nvPr/>
        </p:nvSpPr>
        <p:spPr>
          <a:xfrm>
            <a:off x="2197080" y="1628640"/>
            <a:ext cx="0" cy="10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1530360" y="2629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251080" y="193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 rot="19128600">
            <a:off x="1334160" y="16999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z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3"/>
          <p:cNvGrpSpPr/>
          <p:nvPr/>
        </p:nvGrpSpPr>
        <p:grpSpPr>
          <a:xfrm>
            <a:off x="468360" y="3429000"/>
            <a:ext cx="2808000" cy="1944720"/>
            <a:chOff x="468360" y="3429000"/>
            <a:chExt cx="2808000" cy="1944720"/>
          </a:xfrm>
        </p:grpSpPr>
        <p:sp>
          <p:nvSpPr>
            <p:cNvPr id="173" name="Line 24"/>
            <p:cNvSpPr/>
            <p:nvPr/>
          </p:nvSpPr>
          <p:spPr>
            <a:xfrm flipV="1">
              <a:off x="901440" y="3429000"/>
              <a:ext cx="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468360" y="5085000"/>
              <a:ext cx="28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 flipV="1">
              <a:off x="901440" y="3862440"/>
              <a:ext cx="646200" cy="12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7"/>
            <p:cNvSpPr/>
            <p:nvPr/>
          </p:nvSpPr>
          <p:spPr>
            <a:xfrm>
              <a:off x="1492920" y="3502080"/>
              <a:ext cx="131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i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Line 28"/>
          <p:cNvSpPr/>
          <p:nvPr/>
        </p:nvSpPr>
        <p:spPr>
          <a:xfrm flipV="1">
            <a:off x="900000" y="4509720"/>
            <a:ext cx="122400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2013480" y="4503600"/>
            <a:ext cx="131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i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>
            <a:off x="1547640" y="3862440"/>
            <a:ext cx="576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1848240" y="3881520"/>
            <a:ext cx="1056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2"/>
          <p:cNvSpPr/>
          <p:nvPr/>
        </p:nvSpPr>
        <p:spPr>
          <a:xfrm>
            <a:off x="1547640" y="3860640"/>
            <a:ext cx="0" cy="649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3"/>
          <p:cNvSpPr/>
          <p:nvPr/>
        </p:nvSpPr>
        <p:spPr>
          <a:xfrm flipH="1">
            <a:off x="1547280" y="4510080"/>
            <a:ext cx="5763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3851280" y="4005360"/>
                <a:ext cx="4248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4" name="Rectangle 35"/>
          <p:cNvSpPr/>
          <p:nvPr/>
        </p:nvSpPr>
        <p:spPr>
          <a:xfrm>
            <a:off x="3719520" y="472356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fat modulu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6"/>
              <p:cNvSpPr txBox="1"/>
              <p:nvPr/>
            </p:nvSpPr>
            <p:spPr>
              <a:xfrm>
                <a:off x="5651640" y="5299200"/>
                <a:ext cx="1657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7"/>
              <p:cNvSpPr txBox="1"/>
              <p:nvPr/>
            </p:nvSpPr>
            <p:spPr>
              <a:xfrm>
                <a:off x="3851280" y="5156280"/>
                <a:ext cx="10810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38"/>
          <p:cNvSpPr/>
          <p:nvPr/>
        </p:nvSpPr>
        <p:spPr>
          <a:xfrm>
            <a:off x="5004720" y="5299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3778920" y="342900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2 + 3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5002920" y="3429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1"/>
              <p:cNvSpPr txBox="1"/>
              <p:nvPr/>
            </p:nvSpPr>
            <p:spPr>
              <a:xfrm>
                <a:off x="5435640" y="3213000"/>
                <a:ext cx="2736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4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BF1F-CDF0-4BE2-9C20-B6AD8AE6028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9EF6F076-9974-46A1-A927-4074EAF5A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njugate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7"/>
              <p:cNvSpPr txBox="1"/>
              <p:nvPr/>
            </p:nvSpPr>
            <p:spPr>
              <a:xfrm>
                <a:off x="2003400" y="2276640"/>
                <a:ext cx="14367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  <m:r>
                          <m:t xml:space="preserve"></m:t>
                        </m:r>
                      </m:e>
                    </m:ba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12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2"/>
          <p:cNvSpPr/>
          <p:nvPr/>
        </p:nvSpPr>
        <p:spPr>
          <a:xfrm>
            <a:off x="250920" y="979920"/>
            <a:ext cx="508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jugate ( sekawan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z = x + i y didefinisikan sebagai bilangan kompleks yang didapatkan dari z bila dicerminkan terhadap sumbu r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7308720" y="3500280"/>
                <a:ext cx="1368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  <m:r>
                          <m:t xml:space="preserve"></m:t>
                        </m:r>
                      </m:e>
                    </m:ba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" name="Group 30"/>
          <p:cNvGrpSpPr/>
          <p:nvPr/>
        </p:nvGrpSpPr>
        <p:grpSpPr>
          <a:xfrm>
            <a:off x="5437080" y="907920"/>
            <a:ext cx="2879640" cy="3456000"/>
            <a:chOff x="5437080" y="907920"/>
            <a:chExt cx="2879640" cy="3456000"/>
          </a:xfrm>
        </p:grpSpPr>
        <p:sp>
          <p:nvSpPr>
            <p:cNvPr id="202" name="Line 25"/>
            <p:cNvSpPr/>
            <p:nvPr/>
          </p:nvSpPr>
          <p:spPr>
            <a:xfrm flipV="1">
              <a:off x="5867280" y="907920"/>
              <a:ext cx="3240" cy="345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6"/>
            <p:cNvSpPr/>
            <p:nvPr/>
          </p:nvSpPr>
          <p:spPr>
            <a:xfrm>
              <a:off x="5437080" y="256356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 flipV="1">
              <a:off x="5870520" y="1483560"/>
              <a:ext cx="1295280" cy="1079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8"/>
            <p:cNvSpPr/>
            <p:nvPr/>
          </p:nvSpPr>
          <p:spPr>
            <a:xfrm>
              <a:off x="7218720" y="1215720"/>
              <a:ext cx="10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 = x + i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29"/>
          <p:cNvSpPr/>
          <p:nvPr/>
        </p:nvSpPr>
        <p:spPr>
          <a:xfrm>
            <a:off x="5867280" y="2563920"/>
            <a:ext cx="1297080" cy="115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7164360" y="1484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322920" y="23414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2 + 3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1546920" y="2341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341640" y="28144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- 2  -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0"/>
          <p:cNvSpPr/>
          <p:nvPr/>
        </p:nvSpPr>
        <p:spPr>
          <a:xfrm>
            <a:off x="1567800" y="28144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3"/>
              <p:cNvSpPr txBox="1"/>
              <p:nvPr/>
            </p:nvSpPr>
            <p:spPr>
              <a:xfrm>
                <a:off x="2071800" y="2779560"/>
                <a:ext cx="14396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  <m:r>
                          <m:t xml:space="preserve"></m:t>
                        </m:r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48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324000" y="328356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fat sekaw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0"/>
              <p:cNvSpPr txBox="1"/>
              <p:nvPr/>
            </p:nvSpPr>
            <p:spPr>
              <a:xfrm>
                <a:off x="395280" y="3716280"/>
                <a:ext cx="3097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1"/>
              <p:cNvSpPr txBox="1"/>
              <p:nvPr/>
            </p:nvSpPr>
            <p:spPr>
              <a:xfrm>
                <a:off x="385920" y="4379760"/>
                <a:ext cx="21700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2"/>
              <p:cNvSpPr txBox="1"/>
              <p:nvPr/>
            </p:nvSpPr>
            <p:spPr>
              <a:xfrm>
                <a:off x="349200" y="4886280"/>
                <a:ext cx="1774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53"/>
              <p:cNvSpPr txBox="1"/>
              <p:nvPr/>
            </p:nvSpPr>
            <p:spPr>
              <a:xfrm>
                <a:off x="485640" y="5419800"/>
                <a:ext cx="1400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z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z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54"/>
              <p:cNvSpPr txBox="1"/>
              <p:nvPr/>
            </p:nvSpPr>
            <p:spPr>
              <a:xfrm>
                <a:off x="3029040" y="4681440"/>
                <a:ext cx="3301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5"/>
              <p:cNvSpPr txBox="1"/>
              <p:nvPr/>
            </p:nvSpPr>
            <p:spPr>
              <a:xfrm>
                <a:off x="2843280" y="5445000"/>
                <a:ext cx="28083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4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4-30T03:14:17Z</dcterms:modified>
  <cp:revision>102</cp:revision>
  <dc:subject/>
  <dc:title>Slide 1</dc:title>
</cp:coreProperties>
</file>