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887-CFA0-4E64-9A52-F96BCCE9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510-E2EE-413F-8E73-7BBEEDF3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F1F-9245-4B79-B168-88CA1604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C62-76CD-4380-B610-57BC8B4B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F76-1C21-4310-B823-4FF1424E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9FC-BC42-4EEE-8F8D-30F5E8D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12D-7BEB-409B-A947-9679C056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147-8269-43BF-8BA5-D44CCD5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EE1-D408-4AF2-95D4-F179364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5C9-7A8E-4B7F-A39D-5C4279F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D645-B3BE-491C-9306-3732208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713-F431-4587-A2E4-BCC6B2BE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D423-2702-4372-AB54-64CA2D9CA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13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perational Ampl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oy_f_13017a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ity 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86728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527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056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5276880"/>
                <a:ext cx="1981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mming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5348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the op-amp has a high input impedance the multiple inputs are treated as separate in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943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6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120" y="5638680"/>
                <a:ext cx="3276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1" name="boy_f_13018a" descr=""/>
          <p:cNvPicPr/>
          <p:nvPr/>
        </p:nvPicPr>
        <p:blipFill>
          <a:blip r:embed="rId1"/>
          <a:stretch/>
        </p:blipFill>
        <p:spPr>
          <a:xfrm>
            <a:off x="1143000" y="687240"/>
            <a:ext cx="6580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boy_f_13019a" descr=""/>
          <p:cNvPicPr/>
          <p:nvPr/>
        </p:nvPicPr>
        <p:blipFill>
          <a:blip r:embed="rId1"/>
          <a:srcRect l="0" t="0" r="0" b="16280"/>
          <a:stretch/>
        </p:blipFill>
        <p:spPr>
          <a:xfrm>
            <a:off x="685800" y="609480"/>
            <a:ext cx="7391520" cy="4125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g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800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utput is the integral of the input. Integration is the operation of summing the area under a waveform or curve over a period of time. This circuit is useful in low-pass filter circuits and sensor conditioning circu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59180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9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00200" y="5765760"/>
                <a:ext cx="2666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fferen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5105520"/>
            <a:ext cx="9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fferentiator takes the derivative of the input. This circuit is useful in high-pass filter circu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5943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76520" y="5486400"/>
                <a:ext cx="2514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9" name="boy_f_13022" descr=""/>
          <p:cNvPicPr/>
          <p:nvPr/>
        </p:nvPicPr>
        <p:blipFill>
          <a:blip r:embed="rId1"/>
          <a:srcRect l="0" t="11109" r="0" b="12500"/>
          <a:stretch/>
        </p:blipFill>
        <p:spPr>
          <a:xfrm>
            <a:off x="457200" y="8380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Specifications – DC Offse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4811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though the input voltage is 0, there will be an output. This is called offset. The following can cause this off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Offse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Offset Voltage due to Input Offse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Offset Voltage Due to Input Offset Voltage and Input Offse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Bia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put Offset Voltage (V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52244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pecification sheet for an op-amp will indicate an input offset voltage (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ect of this input offset voltage on the output can be calcula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4267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14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3886200"/>
                <a:ext cx="31244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ffse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IO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fset Voltage due to Input Offset Current (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7621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re is a difference between the dc bias currents for the same applied input, then this too will cause an output offset volt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put Offset Current (IIO) is specified in the specifications for the op-a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ect on the output can be calcula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809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19320" y="3733920"/>
                <a:ext cx="4419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ffset due to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O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O</m:t>
                    </m:r>
                    <m:r>
                      <m:t xml:space="preserve">R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tal Offset due to VIO and I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958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p-amp may have an output offset voltage due to both factors 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The total output offset voltage will be the sum of the effects of bo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809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098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(offset) = Vo(offset due to VIO) + Vo(offset due to IIO)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put Bias Current (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arameter that is related to Input Offset Current (IIO) is called Input Bias Current (IIB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parate Input Bias Current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32767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tal Input Bias Current is the aver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2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4572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2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33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1600" y="1905120"/>
                <a:ext cx="121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IO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133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71600" y="2743200"/>
                <a:ext cx="1143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IO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1101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71600" y="3962520"/>
                <a:ext cx="1143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Specifications – Frequenc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8782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op-amp is a wide-bandwidth amplifier. The following affect the bandwidth of the op-a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sic Op-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amplifier or op-amp, is a very high gain differential amplifier with a high input impedance (typically a few mega ohms) and low output impedance (less than 100 oh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9580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e op-amp has two inputs and one out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_13001" descr=""/>
          <p:cNvPicPr/>
          <p:nvPr/>
        </p:nvPicPr>
        <p:blipFill>
          <a:blip r:embed="rId1"/>
          <a:srcRect l="0" t="20833" r="0" b="20833"/>
          <a:stretch/>
        </p:blipFill>
        <p:spPr>
          <a:xfrm>
            <a:off x="533520" y="19810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ain and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85928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p-amp’s high frequency response is limited by internal circuitry. The plot shown is for an open loop gain (AOL or AVD). This means that the op-amp is operating at the highest possible gain with no feedback re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open loop, the op-amp has a narrow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ndwidth will widen in closed loop operation, but then the gain will be l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f_13028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lew Rate (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w rate is the maximum rate at which an op-amp can change output without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958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R rating is given in the specification sheets a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a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2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14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600200" y="2819520"/>
                <a:ext cx="152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V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505320" y="3048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ximum Sign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7621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lew rate determines the highest frequency of the op-amp without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3124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VP is the peak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48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19520" y="2819520"/>
                <a:ext cx="1218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Op-Amp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7306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ratings for op-amp found on specification sheet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lute Ra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bsolute Ra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5958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commonly the maximum ratings for the op-a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t13.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ectr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6833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ese ratings are for specific circuit conditions, and they often include minimum, maximum and typical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t13.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57328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rating worth mentioning that is unique to op-amps is CMRR or Common-Mode Rejection Rat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the op-amp has two inputs that are opposite in phase (inverting input and the non-inverting input) any signal that is common to both inputs will be cancel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easure of the ability to cancel out common signals is called CM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6094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pecification sheets will also include graphs that indicate the performance of the op-amp over a wide range of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f_13032" descr=""/>
          <p:cNvPicPr/>
          <p:nvPr/>
        </p:nvPicPr>
        <p:blipFill>
          <a:blip r:embed="rId1"/>
          <a:stretch/>
        </p:blipFill>
        <p:spPr>
          <a:xfrm>
            <a:off x="533520" y="1346040"/>
            <a:ext cx="72388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096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-Amps have a very high gain. They can be connected open- or closed lo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-lo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fers to a configuration where there is no feedback from output back to the input. In the open-loop configuration the gain can exceed 10,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osed-lo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figuration reduces the gain. In order to control the gain of an op-amp it must have feedback. This feedback is a negative feedback. A negative feedback will reduce the gain and improve many characteristics of the op-am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oy_f_1301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ting Op-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40864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put is applied to the inverting (-) input; the non-inverting input (+) is grounded. The resistor Rf is the feedback resistor; it is connected from the output to the negative (inverting) input. This i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gative 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ting Op-Amp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762120"/>
            <a:ext cx="853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in can be determined from external resistors: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[Formula 13.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y G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 gain is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74320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33526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[Insert Formul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035600"/>
            <a:ext cx="8610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gative sign denotes a 180 degree phase shift between input and out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G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is a multiple of R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 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5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7400" y="1295280"/>
                <a:ext cx="1523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052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81080" y="3276720"/>
                <a:ext cx="1600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_13015" descr=""/>
          <p:cNvPicPr/>
          <p:nvPr/>
        </p:nvPicPr>
        <p:blipFill>
          <a:blip r:embed="rId1"/>
          <a:srcRect l="0" t="15276" r="0" b="13891"/>
          <a:stretch/>
        </p:blipFill>
        <p:spPr>
          <a:xfrm>
            <a:off x="4572000" y="380880"/>
            <a:ext cx="4572000" cy="2159280"/>
          </a:xfrm>
          <a:prstGeom prst="rect">
            <a:avLst/>
          </a:prstGeom>
          <a:ln w="0">
            <a:noFill/>
          </a:ln>
        </p:spPr>
      </p:pic>
      <p:pic>
        <p:nvPicPr>
          <p:cNvPr id="77" name="boy_f_13014" descr=""/>
          <p:cNvPicPr/>
          <p:nvPr/>
        </p:nvPicPr>
        <p:blipFill>
          <a:blip r:embed="rId2"/>
          <a:srcRect l="0" t="11072" r="0" b="12432"/>
          <a:stretch/>
        </p:blipFill>
        <p:spPr>
          <a:xfrm>
            <a:off x="2819520" y="3852720"/>
            <a:ext cx="5181480" cy="2640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rtual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51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understanding of the concept of virtual ground provides a better understanding of how an op-amp oper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on-inverting input pin is at ground. The inverting input pin is also at 0V for an AC sig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because the op-amp has such high input impedance that even with a high gain there is no current from inverting input pin, therefore there is no voltage from inverting pin to ground. All of the current is through R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943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C equivalent circu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actical Op-Amp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068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Op-amp circuits are commonly u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ing 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inverting 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y Fol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ing 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ting Op-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0400" y="5978520"/>
                <a:ext cx="2057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V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f_13015" descr=""/>
          <p:cNvPicPr/>
          <p:nvPr/>
        </p:nvPicPr>
        <p:blipFill>
          <a:blip r:embed="rId1"/>
          <a:srcRect l="0" t="15276" r="0" b="13891"/>
          <a:stretch/>
        </p:blipFill>
        <p:spPr>
          <a:xfrm>
            <a:off x="304920" y="914400"/>
            <a:ext cx="86104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_13016" descr=""/>
          <p:cNvPicPr/>
          <p:nvPr/>
        </p:nvPicPr>
        <p:blipFill>
          <a:blip r:embed="rId1"/>
          <a:srcRect l="0" t="13891" r="37966" b="23615"/>
          <a:stretch/>
        </p:blipFill>
        <p:spPr>
          <a:xfrm>
            <a:off x="457200" y="380880"/>
            <a:ext cx="7467480" cy="5015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ninverting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9580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the output formula is similar to Inverting Amplifier, but they are not the 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8120" y="4876920"/>
                <a:ext cx="312408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1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V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8:59:58Z</dcterms:created>
  <dc:creator>Pearson Education</dc:creator>
  <dc:description/>
  <dc:language>en-US</dc:language>
  <cp:lastModifiedBy>Pearson Education</cp:lastModifiedBy>
  <dcterms:modified xsi:type="dcterms:W3CDTF">2001-10-31T22:00:39Z</dcterms:modified>
  <cp:revision>47</cp:revision>
  <dc:subject/>
  <dc:title>FIGURE 1-1    Analog versus digital: (a) analog waveform; (b) digital waveform; (c) analog watch; (d) digital watch.</dc:title>
</cp:coreProperties>
</file>