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96D-FD83-4BD6-A27E-AC15504C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E02-7B7C-4CA8-86B7-3514C655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BA5-6929-4286-9E13-C58362F7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511-6A17-466E-8085-CA1CE10C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E34-69C1-4130-9643-AE9F5558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064-AB4C-4D8A-B22E-10549E23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7F6-9A9C-4B2B-8D13-F7D7CAE3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5A6-78B0-40B7-A248-7040B1D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CF0-BF7B-4BA5-B2DA-63A12BD9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380-5646-438C-B38C-8B7F057D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217-8968-48D6-BB46-EC1D6877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B73-2B25-4B8A-AED6-EF214570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F17-5489-415F-B09D-C08E4AAB73B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tonterias.com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37960"/>
            <a:ext cx="9144000" cy="70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914400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80920"/>
            <a:ext cx="9144000" cy="50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47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32240" y="64911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onteria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funnybytes.n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funnybytes.n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117880"/>
            <a:ext cx="9144000" cy="47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-30240"/>
            <a:ext cx="705816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10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364000" cy="37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88040" y="692280"/>
            <a:ext cx="3855960" cy="494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89200"/>
            <a:ext cx="914400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2:09:01Z</dcterms:created>
  <dc:creator>MMC</dc:creator>
  <dc:description/>
  <dc:language>en-US</dc:language>
  <cp:lastModifiedBy>Smets</cp:lastModifiedBy>
  <dcterms:modified xsi:type="dcterms:W3CDTF">2008-08-25T19:58:37Z</dcterms:modified>
  <cp:revision>14</cp:revision>
  <dc:subject/>
  <dc:title>O QUE VOCÊ FAZ QUANDO ENCONTRA UM CARRO COM O VIDRO SUJO?</dc:title>
</cp:coreProperties>
</file>