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426-A004-4A10-8BB6-50DFA122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2E5-E3F0-402C-BE68-C6CC1CFD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408-6C81-48F2-8638-BEAF2304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5B9-251A-4814-9672-3E821E64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51E-EFAD-489F-993A-4742BA54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D47-D285-4FC7-ACF1-C0A64338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C2E-6E40-416B-9BAA-76D69EA3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F99-590F-4554-A1E7-50273235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AD2-DAAB-413E-BB58-02D0D9EF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447-132B-4686-836D-A329A82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5A2-03FE-4780-8BC4-F469EDE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D75-A8C0-47D2-A452-199A31D1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8B8A-31CF-4831-9D63-7B8E45ECCD1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tonteria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37960"/>
            <a:ext cx="9144000" cy="70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914400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39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80920"/>
            <a:ext cx="9144000" cy="50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031760"/>
            <a:ext cx="914400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79440"/>
            <a:ext cx="9144000" cy="6099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32240" y="64911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onteria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733920" y="0"/>
            <a:ext cx="5133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ww.funnybytes.n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117880"/>
            <a:ext cx="9144000" cy="47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-30240"/>
            <a:ext cx="705816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10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5364000" cy="37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88040" y="692280"/>
            <a:ext cx="3855960" cy="49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7964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789200"/>
            <a:ext cx="9144000" cy="50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04880"/>
            <a:ext cx="9144000" cy="54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22:09:01Z</dcterms:created>
  <dc:creator>MMC</dc:creator>
  <dc:description/>
  <dc:language>en-US</dc:language>
  <cp:lastModifiedBy>Smets</cp:lastModifiedBy>
  <dcterms:modified xsi:type="dcterms:W3CDTF">2008-08-25T19:58:37Z</dcterms:modified>
  <cp:revision>14</cp:revision>
  <dc:subject/>
  <dc:title>O QUE VOCÊ FAZ QUANDO ENCONTRA UM CARRO COM O VIDRO SUJO?</dc:title>
</cp:coreProperties>
</file>